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F9A-D643-48F2-940E-3EB5D577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CB6-C3A1-41F4-97DD-D3FC3294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CED-1D7D-478B-970F-C3B17246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CBD-EB0D-4115-A2BB-452E42AD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EEA-3FEF-4146-9575-FE663E8B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4BCB-0B10-441E-821A-5C3211C3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549-2486-4EC0-B780-0BD4D1DC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A27-82C3-4BF5-A540-2514B94F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BB9-354D-4DDD-A021-A0BD66B5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69A-1028-42BA-9644-D6750A6E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118-4329-4B88-B5CB-546543FF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6CE-A818-476D-9330-F8DECA5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4B97-E995-4723-8133-F0E193E8D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s a collection of instructions that will perform some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EED3-74D9-4125-B911-C8AB8F7D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process of designing how the requirements to be implem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nverts the designs into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coding it use language translators to compile th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8941-0E49-453A-875A-4F3D2485B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the modules are integrat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project is tested and find whether it meets the customer/user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ke modifications based on the customer feedba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F987-649F-47E5-B83E-5D247549C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gorithm is a well organized, pre arranged and defined textual computational module that receives some values or set of values as IP &amp; provides a single or a set of values as 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the programmer in breaking down the solution of a problem into a number of sequential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2216-0EBA-48B2-82BD-D4ABF90DE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ps in the algorithm must be unambiguou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 should be written in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that the algorithm will termin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conclude after a finite number of ste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DAA5-8F23-422F-BDE0-A2CE112F5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used to judge the algorith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etc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9923-EAE3-45E3-A6DA-73565D071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 of two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1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2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3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he value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the result in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4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the value 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ep5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003F-7D41-4894-A66A-2A99236C2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Pseud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mitat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o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formal design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gram Design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C98A-16FA-480C-8A81-CDD37F6C8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,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,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,CALC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4F0-2C8F-42DF-BA3E-338AC7F46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 for writing Pseudo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should be understa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ize the key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nt to show hierarc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multiple line structure etc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DBF6-C1A3-412F-A7CB-3F61364A5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=a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1A39-B8BF-4A8C-8CBE-AAC297012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olving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e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solution for the problem and divide it into small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has to be prep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algorithm the program will  be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it has to be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4A87-4D8A-4955-AB03-CBE730DFE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,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&gt;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 is 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b is gre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2FC8-B588-413B-8BA4-33411DEEF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 &amp; Dis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easily mod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understood eas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 flowchart it is difficult to understand the program log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BBD0-7EA3-48D4-A10C-2E4E81A5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pictorial representation of th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scribes the sequence &amp; flow of control &amp; information in 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uses different symbols for depicting different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5D1E-A99A-4829-ABF1-9887ACEB8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d to represent the start, end of the program log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d for input or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Symb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d to represent the calculations, data movements, initialization operations etc,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95680" y="1143000"/>
            <a:ext cx="1828800" cy="5335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4343400" y="3124080"/>
            <a:ext cx="1981080" cy="4572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419720" y="4572000"/>
            <a:ext cx="1904760" cy="6094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B5E2-96C7-458E-A0A2-F2A904A9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sion Symb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used to denote a decision to be made at that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used to connect the symb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used to connect the flow l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used to denote loops involved in the pro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800600" y="380880"/>
            <a:ext cx="1600200" cy="9144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5562720" y="266688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5715000" y="3581280"/>
            <a:ext cx="609480" cy="6098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7696080" y="2133720"/>
            <a:ext cx="460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lowchart: Preparation 6"/>
          <p:cNvSpPr/>
          <p:nvPr/>
        </p:nvSpPr>
        <p:spPr>
          <a:xfrm>
            <a:off x="5638680" y="4495680"/>
            <a:ext cx="2971800" cy="612720"/>
          </a:xfrm>
          <a:prstGeom prst="flowChartPreparation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118-9113-498C-8682-A9058E16F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 for preparing flowch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hould be clear and easy to fol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symbols should be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low lines should not intersect each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ase of complex flowcharts use the connectors symbo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ion of flow of procedure is from left to right or top to bot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must have one logical start and 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B442-210B-45ED-A42C-DC9F62050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flow line should enter the process symbol and only one flow line should come out from a process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flow line used with the terminal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981080" y="205740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952880" y="2133720"/>
            <a:ext cx="1295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3048120" y="22860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5638680" y="1752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>
            <a:off x="563868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1866960" y="4957920"/>
            <a:ext cx="1447920" cy="4572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5019840" y="5262480"/>
            <a:ext cx="1447560" cy="4572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2552760" y="5415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705640" y="4881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9688-D64C-46A2-85B6-BA6150339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flow line should enter the decision symbol and two or three flowlines may leave from the decision symb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1676520" y="2895480"/>
            <a:ext cx="1447560" cy="9144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5681520" y="2971800"/>
            <a:ext cx="1447920" cy="9144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2409840" y="2514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641520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712944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12408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5224320" y="3429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H="1">
            <a:off x="1143000" y="3352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6410160" y="38862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A723-0563-4094-93FD-C0907A113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of Flow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Logic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Program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B19A-B435-4F2E-8A09-5506C8C7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of Flowch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difficult to use flowcharts for larg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mod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etc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0098-CABB-44E9-830E-F23954005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Development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plan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fall method etc,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5540-B205-407E-8C28-FDC899C1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quence contro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w cha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914400" y="4038480"/>
            <a:ext cx="1981080" cy="6098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990720" y="5562720"/>
            <a:ext cx="1904760" cy="6094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14400" y="3200400"/>
            <a:ext cx="1981080" cy="6094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82880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6095880" y="4724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C157-2F9A-4A62-9312-3656D4CA0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quence control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instructions are computed in sequence i.e. it performs instruction one after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uses top-down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1B01-13CF-41C1-990E-508CCD8A5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2709720" y="1938240"/>
            <a:ext cx="243864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2633760" y="3691080"/>
            <a:ext cx="2438280" cy="5000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=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2405160" y="4648320"/>
            <a:ext cx="304776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2557440" y="2852640"/>
            <a:ext cx="2819520" cy="38124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2633760" y="5562720"/>
            <a:ext cx="24382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3852720" y="2395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929040" y="323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392904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392904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7F89-A67E-49F4-8656-CE209FE9E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LECTION CONTRO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making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lows the program to make a choice from alternative path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…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…THEN…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 etc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CAF7-6E48-48DC-979C-4572C3437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…T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eudocod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condition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6324480" y="2585880"/>
            <a:ext cx="1981440" cy="182880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7086600" y="5481720"/>
            <a:ext cx="457200" cy="457200"/>
          </a:xfrm>
          <a:prstGeom prst="flowChartConnec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7315200" y="59389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/>
          <p:cNvSpPr/>
          <p:nvPr/>
        </p:nvSpPr>
        <p:spPr>
          <a:xfrm>
            <a:off x="73152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5486400" y="2967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AutoShape 17"/>
          <p:cNvCxnSpPr/>
          <p:nvPr/>
        </p:nvCxnSpPr>
        <p:spPr>
          <a:xfrm flipH="1" rot="16200000">
            <a:off x="5675760" y="4300200"/>
            <a:ext cx="839160" cy="1981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AutoShape 18"/>
          <p:cNvCxnSpPr>
            <a:stCxn id="230" idx="1"/>
          </p:cNvCxnSpPr>
          <p:nvPr/>
        </p:nvCxnSpPr>
        <p:spPr>
          <a:xfrm flipV="1" rot="10800000">
            <a:off x="5104800" y="3499200"/>
            <a:ext cx="1219680" cy="762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Line 19"/>
          <p:cNvSpPr/>
          <p:nvPr/>
        </p:nvSpPr>
        <p:spPr>
          <a:xfrm>
            <a:off x="7315200" y="44146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0"/>
          <p:cNvSpPr/>
          <p:nvPr/>
        </p:nvSpPr>
        <p:spPr>
          <a:xfrm>
            <a:off x="7315200" y="2209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4"/>
          <p:cNvSpPr/>
          <p:nvPr/>
        </p:nvSpPr>
        <p:spPr>
          <a:xfrm>
            <a:off x="4114800" y="4267080"/>
            <a:ext cx="198108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F42E-B1FD-46CA-8862-43C058910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3505320" y="1143000"/>
            <a:ext cx="2057400" cy="5335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3505320" y="2209680"/>
            <a:ext cx="1981080" cy="6858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581280" y="3200400"/>
            <a:ext cx="1752840" cy="9907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304920" y="4267080"/>
            <a:ext cx="281916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 a is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657600" y="6019920"/>
            <a:ext cx="1752480" cy="53316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4267080" y="5410080"/>
            <a:ext cx="304920" cy="228600"/>
          </a:xfrm>
          <a:prstGeom prst="flowChartConnec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449568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44956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4419720" y="4191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441972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472428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28954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AutoShape 21"/>
          <p:cNvCxnSpPr>
            <a:stCxn id="245" idx="1"/>
            <a:endCxn id="246" idx="1"/>
          </p:cNvCxnSpPr>
          <p:nvPr/>
        </p:nvCxnSpPr>
        <p:spPr>
          <a:xfrm flipV="1" rot="10800000">
            <a:off x="1713960" y="3694680"/>
            <a:ext cx="186732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AutoShape 22"/>
          <p:cNvCxnSpPr>
            <a:stCxn id="246" idx="4"/>
            <a:endCxn id="248" idx="2"/>
          </p:cNvCxnSpPr>
          <p:nvPr/>
        </p:nvCxnSpPr>
        <p:spPr>
          <a:xfrm flipH="1" rot="16200000">
            <a:off x="2590560" y="3847680"/>
            <a:ext cx="801000" cy="255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ABFE-1506-429F-9B17-6E9B3C440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…THEN…EL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co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ondition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5410080" y="1976400"/>
            <a:ext cx="1981440" cy="182880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6172200" y="4871880"/>
            <a:ext cx="457200" cy="457200"/>
          </a:xfrm>
          <a:prstGeom prst="flowChartConnec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6400800" y="53290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4572000" y="2357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10"/>
          <p:cNvCxnSpPr>
            <a:stCxn id="261" idx="1"/>
          </p:cNvCxnSpPr>
          <p:nvPr/>
        </p:nvCxnSpPr>
        <p:spPr>
          <a:xfrm flipV="1" rot="10800000">
            <a:off x="4761720" y="2889720"/>
            <a:ext cx="648360" cy="76284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Line 11"/>
          <p:cNvSpPr/>
          <p:nvPr/>
        </p:nvSpPr>
        <p:spPr>
          <a:xfrm>
            <a:off x="6400800" y="16765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13"/>
          <p:cNvCxnSpPr>
            <a:stCxn id="261" idx="3"/>
          </p:cNvCxnSpPr>
          <p:nvPr/>
        </p:nvCxnSpPr>
        <p:spPr>
          <a:xfrm>
            <a:off x="7391520" y="2890440"/>
            <a:ext cx="305280" cy="793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14"/>
          <p:cNvCxnSpPr>
            <a:endCxn id="262" idx="6"/>
          </p:cNvCxnSpPr>
          <p:nvPr/>
        </p:nvCxnSpPr>
        <p:spPr>
          <a:xfrm rot="5400000">
            <a:off x="6757920" y="4163040"/>
            <a:ext cx="808560" cy="1067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Text Box 15"/>
          <p:cNvSpPr/>
          <p:nvPr/>
        </p:nvSpPr>
        <p:spPr>
          <a:xfrm>
            <a:off x="7620120" y="23623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7"/>
          <p:cNvCxnSpPr>
            <a:endCxn id="262" idx="2"/>
          </p:cNvCxnSpPr>
          <p:nvPr/>
        </p:nvCxnSpPr>
        <p:spPr>
          <a:xfrm flipH="1" rot="16200000">
            <a:off x="5048280" y="3976200"/>
            <a:ext cx="838800" cy="14104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Rectangle 19"/>
          <p:cNvSpPr/>
          <p:nvPr/>
        </p:nvSpPr>
        <p:spPr>
          <a:xfrm>
            <a:off x="3759120" y="3657600"/>
            <a:ext cx="198144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6705720" y="3657600"/>
            <a:ext cx="198108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F358-302B-4E58-816E-F90F027E6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3505320" y="1143000"/>
            <a:ext cx="2057400" cy="5335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505320" y="2209680"/>
            <a:ext cx="1981080" cy="6858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,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581280" y="3200400"/>
            <a:ext cx="1752840" cy="9907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&gt;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04920" y="4267080"/>
            <a:ext cx="281916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 a is Gr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276720" y="4572000"/>
            <a:ext cx="281916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 b is Gre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8"/>
          <p:cNvSpPr/>
          <p:nvPr/>
        </p:nvSpPr>
        <p:spPr>
          <a:xfrm>
            <a:off x="3657600" y="6019920"/>
            <a:ext cx="1752480" cy="53316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4267080" y="5410080"/>
            <a:ext cx="304920" cy="228600"/>
          </a:xfrm>
          <a:prstGeom prst="flowChartConnec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449568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4956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3"/>
          <p:cNvSpPr/>
          <p:nvPr/>
        </p:nvSpPr>
        <p:spPr>
          <a:xfrm>
            <a:off x="441972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4"/>
          <p:cNvSpPr/>
          <p:nvPr/>
        </p:nvSpPr>
        <p:spPr>
          <a:xfrm>
            <a:off x="44197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472428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28954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AutoShape 21"/>
          <p:cNvCxnSpPr>
            <a:stCxn id="278" idx="1"/>
            <a:endCxn id="279" idx="1"/>
          </p:cNvCxnSpPr>
          <p:nvPr/>
        </p:nvCxnSpPr>
        <p:spPr>
          <a:xfrm flipV="1" rot="10800000">
            <a:off x="1713960" y="3694680"/>
            <a:ext cx="186732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AutoShape 22"/>
          <p:cNvCxnSpPr>
            <a:stCxn id="279" idx="4"/>
            <a:endCxn id="282" idx="2"/>
          </p:cNvCxnSpPr>
          <p:nvPr/>
        </p:nvCxnSpPr>
        <p:spPr>
          <a:xfrm flipH="1" rot="16200000">
            <a:off x="2590560" y="3847680"/>
            <a:ext cx="801000" cy="255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Slide Number Placeholder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11CC-AF88-4AFD-8ABE-1A6A031DE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ype-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ype-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ype-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52531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5"/>
          <p:cNvSpPr/>
          <p:nvPr/>
        </p:nvSpPr>
        <p:spPr>
          <a:xfrm>
            <a:off x="5843520" y="2400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4648320" y="2057400"/>
            <a:ext cx="1218960" cy="68580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4648320" y="3276720"/>
            <a:ext cx="1218960" cy="68580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4648320" y="4495680"/>
            <a:ext cx="1218960" cy="68580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6400800" y="2057400"/>
            <a:ext cx="1600200" cy="6094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6400800" y="3276720"/>
            <a:ext cx="1600200" cy="6094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6400800" y="4495680"/>
            <a:ext cx="1600200" cy="6098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ces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2"/>
          <p:cNvSpPr/>
          <p:nvPr/>
        </p:nvSpPr>
        <p:spPr>
          <a:xfrm>
            <a:off x="5257800" y="1523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V="1">
            <a:off x="8381880" y="2286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5867280" y="4843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6"/>
          <p:cNvSpPr/>
          <p:nvPr/>
        </p:nvSpPr>
        <p:spPr>
          <a:xfrm>
            <a:off x="5867280" y="3645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5257800" y="54100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800100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802476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1"/>
          <p:cNvSpPr/>
          <p:nvPr/>
        </p:nvSpPr>
        <p:spPr>
          <a:xfrm>
            <a:off x="80010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2"/>
          <p:cNvSpPr/>
          <p:nvPr/>
        </p:nvSpPr>
        <p:spPr>
          <a:xfrm>
            <a:off x="4800600" y="28195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3"/>
          <p:cNvSpPr/>
          <p:nvPr/>
        </p:nvSpPr>
        <p:spPr>
          <a:xfrm>
            <a:off x="4724280" y="4038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4648320" y="54100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5"/>
          <p:cNvSpPr/>
          <p:nvPr/>
        </p:nvSpPr>
        <p:spPr>
          <a:xfrm>
            <a:off x="5791320" y="2057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6"/>
          <p:cNvSpPr/>
          <p:nvPr/>
        </p:nvSpPr>
        <p:spPr>
          <a:xfrm>
            <a:off x="5791320" y="3200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7"/>
          <p:cNvSpPr/>
          <p:nvPr/>
        </p:nvSpPr>
        <p:spPr>
          <a:xfrm>
            <a:off x="5791320" y="4510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5257800" y="514656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2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75F0-CFA9-4221-9275-E8149C8EA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2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1828800" y="762120"/>
            <a:ext cx="2133720" cy="38088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676520" y="6324480"/>
            <a:ext cx="2133360" cy="3049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1447920" y="1371600"/>
            <a:ext cx="2743200" cy="38088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m1,m2,m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295280" y="1981080"/>
            <a:ext cx="3048120" cy="45720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g=(m1+m2+m3)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7"/>
          <p:cNvSpPr/>
          <p:nvPr/>
        </p:nvSpPr>
        <p:spPr>
          <a:xfrm>
            <a:off x="1905120" y="2666880"/>
            <a:ext cx="1752480" cy="7621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g&gt;=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1828800" y="3652920"/>
            <a:ext cx="1828800" cy="76176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&gt;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>
            <a:off x="1752480" y="4648320"/>
            <a:ext cx="1981440" cy="76176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&gt;=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0"/>
          <p:cNvSpPr/>
          <p:nvPr/>
        </p:nvSpPr>
        <p:spPr>
          <a:xfrm>
            <a:off x="1676520" y="5715000"/>
            <a:ext cx="2057400" cy="3049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2819520" y="1752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>
            <a:off x="275760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5"/>
          <p:cNvSpPr/>
          <p:nvPr/>
        </p:nvSpPr>
        <p:spPr>
          <a:xfrm>
            <a:off x="2743200" y="3424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27432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7"/>
          <p:cNvSpPr/>
          <p:nvPr/>
        </p:nvSpPr>
        <p:spPr>
          <a:xfrm>
            <a:off x="27432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8"/>
          <p:cNvSpPr/>
          <p:nvPr/>
        </p:nvSpPr>
        <p:spPr>
          <a:xfrm>
            <a:off x="27432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9"/>
          <p:cNvSpPr/>
          <p:nvPr/>
        </p:nvSpPr>
        <p:spPr>
          <a:xfrm flipH="1">
            <a:off x="2743200" y="6095880"/>
            <a:ext cx="5029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0"/>
          <p:cNvSpPr/>
          <p:nvPr/>
        </p:nvSpPr>
        <p:spPr>
          <a:xfrm>
            <a:off x="6781680" y="2819520"/>
            <a:ext cx="2057400" cy="53316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4876920" y="3733920"/>
            <a:ext cx="2209680" cy="53316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3"/>
          <p:cNvSpPr/>
          <p:nvPr/>
        </p:nvSpPr>
        <p:spPr>
          <a:xfrm>
            <a:off x="3886200" y="4724280"/>
            <a:ext cx="213372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6"/>
          <p:cNvSpPr/>
          <p:nvPr/>
        </p:nvSpPr>
        <p:spPr>
          <a:xfrm>
            <a:off x="3657600" y="3048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7"/>
          <p:cNvSpPr/>
          <p:nvPr/>
        </p:nvSpPr>
        <p:spPr>
          <a:xfrm>
            <a:off x="7772400" y="335268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8"/>
          <p:cNvSpPr/>
          <p:nvPr/>
        </p:nvSpPr>
        <p:spPr>
          <a:xfrm>
            <a:off x="3657600" y="4033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9"/>
          <p:cNvSpPr/>
          <p:nvPr/>
        </p:nvSpPr>
        <p:spPr>
          <a:xfrm>
            <a:off x="6172200" y="42670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0"/>
          <p:cNvSpPr/>
          <p:nvPr/>
        </p:nvSpPr>
        <p:spPr>
          <a:xfrm>
            <a:off x="3733920" y="5029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31"/>
          <p:cNvSpPr/>
          <p:nvPr/>
        </p:nvSpPr>
        <p:spPr>
          <a:xfrm>
            <a:off x="5029200" y="525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2"/>
          <p:cNvSpPr/>
          <p:nvPr/>
        </p:nvSpPr>
        <p:spPr>
          <a:xfrm>
            <a:off x="15228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Finding the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2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319F-3358-4379-9890-823B63642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2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plan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00400" y="1371600"/>
            <a:ext cx="236232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200400" y="2298600"/>
            <a:ext cx="236232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3200400" y="5181480"/>
            <a:ext cx="236232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&amp;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200400" y="4241880"/>
            <a:ext cx="236232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162240" y="3276720"/>
            <a:ext cx="236232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200400" y="6095880"/>
            <a:ext cx="236232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4267080" y="20066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67080" y="2895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4292640" y="386064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4"/>
          <p:cNvSpPr/>
          <p:nvPr/>
        </p:nvSpPr>
        <p:spPr>
          <a:xfrm flipH="1">
            <a:off x="4330440" y="4876920"/>
            <a:ext cx="12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4343400" y="57783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77A9-92EB-4DEE-B449-60DE7B804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ing contro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to execute some instructions several time based on some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…WHILE loop etc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F999-9095-4E76-8639-F57DAC55D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LE Lo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c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5410080" y="4572000"/>
            <a:ext cx="2133720" cy="5335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dy of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715000" y="2971800"/>
            <a:ext cx="1752480" cy="9907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65959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6629400" y="3962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8"/>
          <p:cNvSpPr/>
          <p:nvPr/>
        </p:nvSpPr>
        <p:spPr>
          <a:xfrm>
            <a:off x="7467480" y="34718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9"/>
          <p:cNvSpPr/>
          <p:nvPr/>
        </p:nvSpPr>
        <p:spPr>
          <a:xfrm>
            <a:off x="83818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0"/>
          <p:cNvSpPr/>
          <p:nvPr/>
        </p:nvSpPr>
        <p:spPr>
          <a:xfrm flipH="1">
            <a:off x="655308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65581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2"/>
          <p:cNvSpPr/>
          <p:nvPr/>
        </p:nvSpPr>
        <p:spPr>
          <a:xfrm>
            <a:off x="662940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3"/>
          <p:cNvSpPr/>
          <p:nvPr/>
        </p:nvSpPr>
        <p:spPr>
          <a:xfrm flipH="1">
            <a:off x="4571640" y="5334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4"/>
          <p:cNvSpPr/>
          <p:nvPr/>
        </p:nvSpPr>
        <p:spPr>
          <a:xfrm flipV="1">
            <a:off x="45720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457200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7620120" y="3048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6781680" y="41911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D785-BD3D-4E62-93A2-C7B693FC6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3276720" y="914400"/>
            <a:ext cx="1904760" cy="38088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3200400" y="1600200"/>
            <a:ext cx="2133720" cy="5335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2819520" y="3886200"/>
            <a:ext cx="3047760" cy="5335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=Num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2971800" y="525780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3352680" y="2438280"/>
            <a:ext cx="1676520" cy="106704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&l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3200400" y="609588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41911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1911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2"/>
          <p:cNvSpPr/>
          <p:nvPr/>
        </p:nvSpPr>
        <p:spPr>
          <a:xfrm>
            <a:off x="4210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41911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6095880" y="2514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327672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AutoShape 20"/>
          <p:cNvCxnSpPr>
            <a:stCxn id="376" idx="2"/>
            <a:endCxn id="378" idx="1"/>
          </p:cNvCxnSpPr>
          <p:nvPr/>
        </p:nvCxnSpPr>
        <p:spPr>
          <a:xfrm flipV="1" rot="16200000">
            <a:off x="3123720" y="3199680"/>
            <a:ext cx="1448640" cy="991440"/>
          </a:xfrm>
          <a:prstGeom prst="bentConnector4">
            <a:avLst>
              <a:gd name="adj1" fmla="val -15784"/>
              <a:gd name="adj2" fmla="val 2384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AutoShape 21"/>
          <p:cNvCxnSpPr>
            <a:stCxn id="378" idx="3"/>
            <a:endCxn id="377" idx="1"/>
          </p:cNvCxnSpPr>
          <p:nvPr/>
        </p:nvCxnSpPr>
        <p:spPr>
          <a:xfrm flipH="1">
            <a:off x="4228920" y="2971800"/>
            <a:ext cx="800640" cy="2286720"/>
          </a:xfrm>
          <a:prstGeom prst="bentConnector4">
            <a:avLst>
              <a:gd name="adj1" fmla="val -247818"/>
              <a:gd name="adj2" fmla="val 883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48AF-D1C3-4BE2-88BD-EB961432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…WHILE Lo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co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of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5410080" y="2971800"/>
            <a:ext cx="2133720" cy="5335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dy of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638680" y="4114800"/>
            <a:ext cx="1905120" cy="9907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6595920" y="2133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66294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6586560" y="5105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3"/>
          <p:cNvSpPr/>
          <p:nvPr/>
        </p:nvSpPr>
        <p:spPr>
          <a:xfrm flipH="1">
            <a:off x="4571640" y="4605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4"/>
          <p:cNvSpPr/>
          <p:nvPr/>
        </p:nvSpPr>
        <p:spPr>
          <a:xfrm flipV="1">
            <a:off x="4572000" y="2437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5"/>
          <p:cNvSpPr/>
          <p:nvPr/>
        </p:nvSpPr>
        <p:spPr>
          <a:xfrm>
            <a:off x="457200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68580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7"/>
          <p:cNvSpPr/>
          <p:nvPr/>
        </p:nvSpPr>
        <p:spPr>
          <a:xfrm>
            <a:off x="4800600" y="3962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9400-330C-4B55-9E94-0BBDC38E2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276720" y="914400"/>
            <a:ext cx="1904760" cy="38088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3200400" y="1600200"/>
            <a:ext cx="2133720" cy="5335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2743200" y="2514600"/>
            <a:ext cx="3048120" cy="5335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=Nu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2971800" y="472428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nt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3352680" y="3352680"/>
            <a:ext cx="1676520" cy="106704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3200400" y="579132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0"/>
          <p:cNvSpPr/>
          <p:nvPr/>
        </p:nvSpPr>
        <p:spPr>
          <a:xfrm>
            <a:off x="41911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41911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2"/>
          <p:cNvSpPr/>
          <p:nvPr/>
        </p:nvSpPr>
        <p:spPr>
          <a:xfrm>
            <a:off x="4210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41911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"/>
          <p:cNvSpPr/>
          <p:nvPr/>
        </p:nvSpPr>
        <p:spPr>
          <a:xfrm>
            <a:off x="41911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5"/>
          <p:cNvSpPr/>
          <p:nvPr/>
        </p:nvSpPr>
        <p:spPr>
          <a:xfrm flipH="1">
            <a:off x="1904760" y="3886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6"/>
          <p:cNvSpPr/>
          <p:nvPr/>
        </p:nvSpPr>
        <p:spPr>
          <a:xfrm flipV="1">
            <a:off x="1905120" y="22856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7"/>
          <p:cNvSpPr/>
          <p:nvPr/>
        </p:nvSpPr>
        <p:spPr>
          <a:xfrm>
            <a:off x="1905120" y="22860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41972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2666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65D8-1D34-4FE3-8243-1AFA8C68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: Finding the area of a cir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2: Read the value of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3: Calculate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4: Prin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5: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758A-577D-4581-84C6-C7D7A266A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area=3.14*r*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2E4A-AB4E-4083-99C1-9C047315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2709720" y="1938240"/>
            <a:ext cx="243864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2633760" y="3691080"/>
            <a:ext cx="2438280" cy="5000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=3.14*r*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2405160" y="4648320"/>
            <a:ext cx="304776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557440" y="2852640"/>
            <a:ext cx="2819520" cy="38124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2633760" y="5562720"/>
            <a:ext cx="24382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3852720" y="2395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>
            <a:off x="3929040" y="323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"/>
          <p:cNvSpPr/>
          <p:nvPr/>
        </p:nvSpPr>
        <p:spPr>
          <a:xfrm>
            <a:off x="392904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1"/>
          <p:cNvSpPr/>
          <p:nvPr/>
        </p:nvSpPr>
        <p:spPr>
          <a:xfrm>
            <a:off x="392904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2F74-753E-4DB6-800F-EA254A635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largest among three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Read the value of a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IF (a&gt;b) and (a&gt;c)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a is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(b&gt;c)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b is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c is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626-DA4D-4258-9FA5-E8263B704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&gt;b) and (a&gt;c)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is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IF (b&gt;c)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b is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 is 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E35B-AB4B-4B64-8A21-B7761FCA6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icatio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th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the major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the sub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verts the informal design to some format that can be understand by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F73A-DDDD-4FEF-BC96-91F480DCB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>
            <a:off x="2438280" y="990720"/>
            <a:ext cx="243864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4876920" y="4267080"/>
            <a:ext cx="2438280" cy="7621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2247840" y="1930320"/>
            <a:ext cx="2819520" cy="38124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,b,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8"/>
          <p:cNvSpPr/>
          <p:nvPr/>
        </p:nvSpPr>
        <p:spPr>
          <a:xfrm>
            <a:off x="36576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9"/>
          <p:cNvSpPr/>
          <p:nvPr/>
        </p:nvSpPr>
        <p:spPr>
          <a:xfrm>
            <a:off x="3657600" y="23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358128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2"/>
          <p:cNvSpPr/>
          <p:nvPr/>
        </p:nvSpPr>
        <p:spPr>
          <a:xfrm>
            <a:off x="2514600" y="6477120"/>
            <a:ext cx="2133720" cy="30456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3"/>
          <p:cNvSpPr/>
          <p:nvPr/>
        </p:nvSpPr>
        <p:spPr>
          <a:xfrm>
            <a:off x="2514600" y="2666880"/>
            <a:ext cx="2209680" cy="12193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&gt;b)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&gt;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4"/>
          <p:cNvSpPr/>
          <p:nvPr/>
        </p:nvSpPr>
        <p:spPr>
          <a:xfrm>
            <a:off x="2717640" y="4097160"/>
            <a:ext cx="1828800" cy="7621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gt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3632040" y="3868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8"/>
          <p:cNvSpPr/>
          <p:nvPr/>
        </p:nvSpPr>
        <p:spPr>
          <a:xfrm>
            <a:off x="3581280" y="6095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/>
          <p:cNvSpPr/>
          <p:nvPr/>
        </p:nvSpPr>
        <p:spPr>
          <a:xfrm>
            <a:off x="6095880" y="3048120"/>
            <a:ext cx="3048120" cy="6858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2362320" y="5334120"/>
            <a:ext cx="2438280" cy="76176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2"/>
          <p:cNvSpPr/>
          <p:nvPr/>
        </p:nvSpPr>
        <p:spPr>
          <a:xfrm>
            <a:off x="4724280" y="3276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3"/>
          <p:cNvSpPr/>
          <p:nvPr/>
        </p:nvSpPr>
        <p:spPr>
          <a:xfrm>
            <a:off x="455940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24"/>
          <p:cNvCxnSpPr>
            <a:stCxn id="464" idx="4"/>
          </p:cNvCxnSpPr>
          <p:nvPr/>
        </p:nvCxnSpPr>
        <p:spPr>
          <a:xfrm rot="5400000">
            <a:off x="4304520" y="3009600"/>
            <a:ext cx="2591280" cy="4039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9" name="Line 25"/>
          <p:cNvSpPr/>
          <p:nvPr/>
        </p:nvSpPr>
        <p:spPr>
          <a:xfrm>
            <a:off x="6019920" y="50292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8"/>
          <p:cNvSpPr/>
          <p:nvPr/>
        </p:nvSpPr>
        <p:spPr>
          <a:xfrm>
            <a:off x="2971800" y="38098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5181480" y="2819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572000" y="4022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2971800" y="4861080"/>
            <a:ext cx="4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D4DD-3F87-421F-8C2F-053DD4F29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2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roots of the Quadratic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:1 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:2  Enter the values of a,b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:3  Find the value of D Using the  Formu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:4  If D is greater than or equal to zero find 2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1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b+sqrt(D))/(2*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2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b-sqrt(D))/(2*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:5  Print  root1 &amp; roo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:6  If D is less than  zero, then print the roo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re imag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:7 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2295-7A31-4556-BD0F-92EEF075E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root1,roo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value of a, b,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&gt;=0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   root1=(-b+sqrt(D))/(2*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2=(-b-sqrt(D))/(2*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are imag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root1,root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1AC7-52CE-48AB-8F71-67D3332D2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3268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4"/>
          <p:cNvSpPr/>
          <p:nvPr/>
        </p:nvSpPr>
        <p:spPr>
          <a:xfrm>
            <a:off x="3505320" y="990720"/>
            <a:ext cx="1600200" cy="38088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3505320" y="6477120"/>
            <a:ext cx="1600200" cy="38088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>
            <a:off x="3276720" y="2514600"/>
            <a:ext cx="1752480" cy="45720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=b*b-4*a*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2590920" y="4343400"/>
            <a:ext cx="3276360" cy="7621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1=[-b+sqrt(D)]/(2*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2=[-b+sqrt(D)]/(2*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8"/>
          <p:cNvSpPr/>
          <p:nvPr/>
        </p:nvSpPr>
        <p:spPr>
          <a:xfrm>
            <a:off x="3200400" y="1676520"/>
            <a:ext cx="198108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a,b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2743200" y="5715000"/>
            <a:ext cx="281952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t root1,roo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0"/>
          <p:cNvSpPr/>
          <p:nvPr/>
        </p:nvSpPr>
        <p:spPr>
          <a:xfrm>
            <a:off x="3200400" y="3352680"/>
            <a:ext cx="1905120" cy="7621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D&gt;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1"/>
          <p:cNvSpPr/>
          <p:nvPr/>
        </p:nvSpPr>
        <p:spPr>
          <a:xfrm>
            <a:off x="4191120" y="1371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2"/>
          <p:cNvSpPr/>
          <p:nvPr/>
        </p:nvSpPr>
        <p:spPr>
          <a:xfrm>
            <a:off x="419112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3"/>
          <p:cNvSpPr/>
          <p:nvPr/>
        </p:nvSpPr>
        <p:spPr>
          <a:xfrm>
            <a:off x="41911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4"/>
          <p:cNvSpPr/>
          <p:nvPr/>
        </p:nvSpPr>
        <p:spPr>
          <a:xfrm>
            <a:off x="4114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5"/>
          <p:cNvSpPr/>
          <p:nvPr/>
        </p:nvSpPr>
        <p:spPr>
          <a:xfrm>
            <a:off x="4191120" y="5105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6"/>
          <p:cNvSpPr/>
          <p:nvPr/>
        </p:nvSpPr>
        <p:spPr>
          <a:xfrm>
            <a:off x="419112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518148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1"/>
          <p:cNvSpPr/>
          <p:nvPr/>
        </p:nvSpPr>
        <p:spPr>
          <a:xfrm>
            <a:off x="4267080" y="3886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AutoShape 24"/>
          <p:cNvCxnSpPr>
            <a:stCxn id="492" idx="3"/>
          </p:cNvCxnSpPr>
          <p:nvPr/>
        </p:nvCxnSpPr>
        <p:spPr>
          <a:xfrm>
            <a:off x="5105520" y="3733560"/>
            <a:ext cx="23248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Line 26"/>
          <p:cNvSpPr/>
          <p:nvPr/>
        </p:nvSpPr>
        <p:spPr>
          <a:xfrm flipH="1">
            <a:off x="4191120" y="63244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7"/>
          <p:cNvSpPr/>
          <p:nvPr/>
        </p:nvSpPr>
        <p:spPr>
          <a:xfrm>
            <a:off x="739152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5867280" y="4495680"/>
            <a:ext cx="3276720" cy="83844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s are imag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21A9-3316-4606-B08B-CE6397D94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wapping two vari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2: Read the value of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3: c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4: Print the value of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5: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53EC-A966-433E-A8D4-BF7E4AA9E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value of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wap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AFE5-C665-4714-8C86-C87115394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3"/>
          <p:cNvSpPr/>
          <p:nvPr/>
        </p:nvSpPr>
        <p:spPr>
          <a:xfrm>
            <a:off x="2709720" y="1295280"/>
            <a:ext cx="243864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"/>
          <p:cNvSpPr/>
          <p:nvPr/>
        </p:nvSpPr>
        <p:spPr>
          <a:xfrm>
            <a:off x="2646360" y="3060720"/>
            <a:ext cx="2438280" cy="113040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2405160" y="4648320"/>
            <a:ext cx="304776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/>
          <p:cNvSpPr/>
          <p:nvPr/>
        </p:nvSpPr>
        <p:spPr>
          <a:xfrm>
            <a:off x="2557440" y="2209680"/>
            <a:ext cx="2819520" cy="38124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>
            <a:off x="2633760" y="5562720"/>
            <a:ext cx="24382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392436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3929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92904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392904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5AE2-E808-4C37-B4BE-49712B98B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apping two variables without using another var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2: Read the value of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3: a = a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a -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a -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4: Print the value of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5: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18D9-BB47-4A0A-B493-8A209F20F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value of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wap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a +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a -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a -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6932-4B1C-45E7-BFF9-DDF9654B8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"/>
          <p:cNvSpPr/>
          <p:nvPr/>
        </p:nvSpPr>
        <p:spPr>
          <a:xfrm>
            <a:off x="2709720" y="1295280"/>
            <a:ext cx="243864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4"/>
          <p:cNvSpPr/>
          <p:nvPr/>
        </p:nvSpPr>
        <p:spPr>
          <a:xfrm>
            <a:off x="2646360" y="3060720"/>
            <a:ext cx="2438280" cy="113040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a +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= 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a -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5"/>
          <p:cNvSpPr/>
          <p:nvPr/>
        </p:nvSpPr>
        <p:spPr>
          <a:xfrm>
            <a:off x="2405160" y="4648320"/>
            <a:ext cx="304776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6"/>
          <p:cNvSpPr/>
          <p:nvPr/>
        </p:nvSpPr>
        <p:spPr>
          <a:xfrm>
            <a:off x="2557440" y="2209680"/>
            <a:ext cx="2819520" cy="38124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,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7"/>
          <p:cNvSpPr/>
          <p:nvPr/>
        </p:nvSpPr>
        <p:spPr>
          <a:xfrm>
            <a:off x="2633760" y="5562720"/>
            <a:ext cx="24382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392436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9"/>
          <p:cNvSpPr/>
          <p:nvPr/>
        </p:nvSpPr>
        <p:spPr>
          <a:xfrm>
            <a:off x="39290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"/>
          <p:cNvSpPr/>
          <p:nvPr/>
        </p:nvSpPr>
        <p:spPr>
          <a:xfrm>
            <a:off x="392904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1"/>
          <p:cNvSpPr/>
          <p:nvPr/>
        </p:nvSpPr>
        <p:spPr>
          <a:xfrm>
            <a:off x="392904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7FCB-4FA8-4BED-B7E4-3C83CD540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verts the Design into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ranslate these programs to machine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&amp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 sample data to test whether it works prop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eliminate the err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6E61-10F1-4618-8C0C-73A634B2F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year is leap year or n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2: Read the value of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3: IF year % 4 ==0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It is a Leap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It is not a Leap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4: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E573-C364-4DC3-A2FD-DB4A7F1FD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ar % 4 ==0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t is a Leap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t is not a Leap ye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5AB5-553C-4660-91C3-6AF99D1C1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/>
          <p:cNvSpPr/>
          <p:nvPr/>
        </p:nvSpPr>
        <p:spPr>
          <a:xfrm>
            <a:off x="3505320" y="1143000"/>
            <a:ext cx="2057400" cy="53352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3505320" y="2209680"/>
            <a:ext cx="1981080" cy="6858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/>
          <p:cNvSpPr/>
          <p:nvPr/>
        </p:nvSpPr>
        <p:spPr>
          <a:xfrm>
            <a:off x="3276720" y="3200400"/>
            <a:ext cx="2361960" cy="9907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% 4 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/>
          <p:cNvSpPr/>
          <p:nvPr/>
        </p:nvSpPr>
        <p:spPr>
          <a:xfrm>
            <a:off x="304920" y="4267080"/>
            <a:ext cx="2819160" cy="6858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 I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eap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7"/>
          <p:cNvSpPr/>
          <p:nvPr/>
        </p:nvSpPr>
        <p:spPr>
          <a:xfrm>
            <a:off x="2971800" y="4572000"/>
            <a:ext cx="312408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 It is not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p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8"/>
          <p:cNvSpPr/>
          <p:nvPr/>
        </p:nvSpPr>
        <p:spPr>
          <a:xfrm>
            <a:off x="3657600" y="6019920"/>
            <a:ext cx="1752480" cy="53316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9"/>
          <p:cNvSpPr/>
          <p:nvPr/>
        </p:nvSpPr>
        <p:spPr>
          <a:xfrm>
            <a:off x="4267080" y="5410080"/>
            <a:ext cx="304920" cy="228600"/>
          </a:xfrm>
          <a:prstGeom prst="flowChartConnec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0"/>
          <p:cNvSpPr/>
          <p:nvPr/>
        </p:nvSpPr>
        <p:spPr>
          <a:xfrm>
            <a:off x="4495680" y="1676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1"/>
          <p:cNvSpPr/>
          <p:nvPr/>
        </p:nvSpPr>
        <p:spPr>
          <a:xfrm>
            <a:off x="44704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2"/>
          <p:cNvSpPr/>
          <p:nvPr/>
        </p:nvSpPr>
        <p:spPr>
          <a:xfrm>
            <a:off x="44449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3"/>
          <p:cNvSpPr/>
          <p:nvPr/>
        </p:nvSpPr>
        <p:spPr>
          <a:xfrm>
            <a:off x="441972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4"/>
          <p:cNvSpPr/>
          <p:nvPr/>
        </p:nvSpPr>
        <p:spPr>
          <a:xfrm>
            <a:off x="44197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4724280" y="4114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28954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AutoShape 21"/>
          <p:cNvCxnSpPr>
            <a:stCxn id="558" idx="1"/>
            <a:endCxn id="559" idx="1"/>
          </p:cNvCxnSpPr>
          <p:nvPr/>
        </p:nvCxnSpPr>
        <p:spPr>
          <a:xfrm flipV="1" rot="10800000">
            <a:off x="1713960" y="3694680"/>
            <a:ext cx="156276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1" name="AutoShape 22"/>
          <p:cNvCxnSpPr>
            <a:stCxn id="559" idx="4"/>
            <a:endCxn id="562" idx="2"/>
          </p:cNvCxnSpPr>
          <p:nvPr/>
        </p:nvCxnSpPr>
        <p:spPr>
          <a:xfrm flipH="1" rot="16200000">
            <a:off x="2705040" y="3962160"/>
            <a:ext cx="572400" cy="2553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2" name="Slide Number Placeholder 1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B414-C7E6-463A-8536-A0377D169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Fac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Read the value of n and set i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While i &lt;= n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 =fact *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Goto ste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Go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5: print the value of 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6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E8D0-0EDB-4273-A915-C8A470589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value of n and set i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i &lt;= n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 =fact *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loop until condition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C01F-EA82-4E7C-BD47-40DB74D8F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4"/>
          <p:cNvSpPr/>
          <p:nvPr/>
        </p:nvSpPr>
        <p:spPr>
          <a:xfrm>
            <a:off x="3276720" y="762120"/>
            <a:ext cx="1904760" cy="38088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3200400" y="1447920"/>
            <a:ext cx="2133720" cy="68580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6"/>
          <p:cNvSpPr/>
          <p:nvPr/>
        </p:nvSpPr>
        <p:spPr>
          <a:xfrm>
            <a:off x="2819520" y="3886200"/>
            <a:ext cx="3047760" cy="76212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=fact *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7"/>
          <p:cNvSpPr/>
          <p:nvPr/>
        </p:nvSpPr>
        <p:spPr>
          <a:xfrm>
            <a:off x="2971800" y="525780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3352680" y="2438280"/>
            <a:ext cx="1676520" cy="106704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&lt;=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9"/>
          <p:cNvSpPr/>
          <p:nvPr/>
        </p:nvSpPr>
        <p:spPr>
          <a:xfrm>
            <a:off x="3200400" y="609588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0"/>
          <p:cNvSpPr/>
          <p:nvPr/>
        </p:nvSpPr>
        <p:spPr>
          <a:xfrm>
            <a:off x="4191120" y="114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1"/>
          <p:cNvSpPr/>
          <p:nvPr/>
        </p:nvSpPr>
        <p:spPr>
          <a:xfrm>
            <a:off x="41911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"/>
          <p:cNvSpPr/>
          <p:nvPr/>
        </p:nvSpPr>
        <p:spPr>
          <a:xfrm>
            <a:off x="4210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>
            <a:off x="41911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6095880" y="2514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327672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AutoShape 17"/>
          <p:cNvCxnSpPr>
            <a:stCxn id="588" idx="3"/>
            <a:endCxn id="587" idx="1"/>
          </p:cNvCxnSpPr>
          <p:nvPr/>
        </p:nvCxnSpPr>
        <p:spPr>
          <a:xfrm flipH="1">
            <a:off x="4228920" y="2971800"/>
            <a:ext cx="800640" cy="2286720"/>
          </a:xfrm>
          <a:prstGeom prst="bentConnector4">
            <a:avLst>
              <a:gd name="adj1" fmla="val -247818"/>
              <a:gd name="adj2" fmla="val 883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Elbow Connector 17"/>
          <p:cNvCxnSpPr>
            <a:stCxn id="586" idx="2"/>
          </p:cNvCxnSpPr>
          <p:nvPr/>
        </p:nvCxnSpPr>
        <p:spPr>
          <a:xfrm flipV="1" rot="16200000">
            <a:off x="2018880" y="2323440"/>
            <a:ext cx="2363040" cy="2286720"/>
          </a:xfrm>
          <a:prstGeom prst="bentConnector3">
            <a:avLst>
              <a:gd name="adj1" fmla="val -96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8" name="Straight Arrow Connector 18"/>
          <p:cNvCxnSpPr/>
          <p:nvPr/>
        </p:nvCxnSpPr>
        <p:spPr>
          <a:xfrm>
            <a:off x="2057040" y="2279160"/>
            <a:ext cx="21344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9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08E0-62CE-4EC5-81EB-48C29B9B7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Sum of the dig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Read the value of n and set i = 0, su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While n&gt;0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 +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Goto ste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Go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5: print the value of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6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1245-E36A-4511-8145-27B120647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value of n and set i =0, sum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n&gt;0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 +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loop until condition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B684-DF7D-4B99-A696-F11BA79D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4"/>
          <p:cNvSpPr/>
          <p:nvPr/>
        </p:nvSpPr>
        <p:spPr>
          <a:xfrm>
            <a:off x="3276720" y="442800"/>
            <a:ext cx="1904760" cy="38124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5"/>
          <p:cNvSpPr/>
          <p:nvPr/>
        </p:nvSpPr>
        <p:spPr>
          <a:xfrm>
            <a:off x="3200400" y="1828800"/>
            <a:ext cx="2133720" cy="5126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0,sum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6"/>
          <p:cNvSpPr/>
          <p:nvPr/>
        </p:nvSpPr>
        <p:spPr>
          <a:xfrm>
            <a:off x="2819520" y="3962520"/>
            <a:ext cx="3047760" cy="10666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 +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7"/>
          <p:cNvSpPr/>
          <p:nvPr/>
        </p:nvSpPr>
        <p:spPr>
          <a:xfrm>
            <a:off x="2971800" y="5465880"/>
            <a:ext cx="2514600" cy="53316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8"/>
          <p:cNvSpPr/>
          <p:nvPr/>
        </p:nvSpPr>
        <p:spPr>
          <a:xfrm>
            <a:off x="3352680" y="2646360"/>
            <a:ext cx="1676520" cy="106668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9"/>
          <p:cNvSpPr/>
          <p:nvPr/>
        </p:nvSpPr>
        <p:spPr>
          <a:xfrm>
            <a:off x="3200400" y="630396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1"/>
          <p:cNvSpPr/>
          <p:nvPr/>
        </p:nvSpPr>
        <p:spPr>
          <a:xfrm>
            <a:off x="4191120" y="371304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4210200" y="234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4191120" y="5999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8"/>
          <p:cNvSpPr/>
          <p:nvPr/>
        </p:nvSpPr>
        <p:spPr>
          <a:xfrm>
            <a:off x="6095880" y="27273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9"/>
          <p:cNvSpPr/>
          <p:nvPr/>
        </p:nvSpPr>
        <p:spPr>
          <a:xfrm>
            <a:off x="327672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2" name="AutoShape 17"/>
          <p:cNvCxnSpPr>
            <a:stCxn id="615" idx="3"/>
            <a:endCxn id="614" idx="1"/>
          </p:cNvCxnSpPr>
          <p:nvPr/>
        </p:nvCxnSpPr>
        <p:spPr>
          <a:xfrm flipH="1">
            <a:off x="4228920" y="3179880"/>
            <a:ext cx="800640" cy="2286720"/>
          </a:xfrm>
          <a:prstGeom prst="bentConnector4">
            <a:avLst>
              <a:gd name="adj1" fmla="val -247818"/>
              <a:gd name="adj2" fmla="val 925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3" name="AutoShape 7"/>
          <p:cNvSpPr/>
          <p:nvPr/>
        </p:nvSpPr>
        <p:spPr>
          <a:xfrm>
            <a:off x="2951280" y="106668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0"/>
          <p:cNvSpPr/>
          <p:nvPr/>
        </p:nvSpPr>
        <p:spPr>
          <a:xfrm>
            <a:off x="4191120" y="158580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0"/>
          <p:cNvSpPr/>
          <p:nvPr/>
        </p:nvSpPr>
        <p:spPr>
          <a:xfrm>
            <a:off x="4191120" y="82404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Elbow Connector 19"/>
          <p:cNvCxnSpPr/>
          <p:nvPr/>
        </p:nvCxnSpPr>
        <p:spPr>
          <a:xfrm flipV="1" rot="16200000">
            <a:off x="1942560" y="2628000"/>
            <a:ext cx="2515320" cy="2286720"/>
          </a:xfrm>
          <a:prstGeom prst="bentConnector3">
            <a:avLst>
              <a:gd name="adj1" fmla="val -46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7" name="Straight Arrow Connector 20"/>
          <p:cNvCxnSpPr/>
          <p:nvPr/>
        </p:nvCxnSpPr>
        <p:spPr>
          <a:xfrm>
            <a:off x="2057040" y="2514600"/>
            <a:ext cx="2134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8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C091-102A-4ACC-A27A-F60D7665C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ooter Placeholder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Reverse of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Read the value of n and set i = 0, su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While n&gt;0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 *10 +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Goto ste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Go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5: print the value of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6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16BC-F73F-4420-B0B9-ADC93D109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odifies the programs if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66DF-5A39-42F7-9FAA-9844B9956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value of n and set i =0, sum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n&gt;0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 *10 +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loop until condition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A4C5-877A-4B6E-86B5-505E0ACCA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4"/>
          <p:cNvSpPr/>
          <p:nvPr/>
        </p:nvSpPr>
        <p:spPr>
          <a:xfrm>
            <a:off x="3276720" y="442800"/>
            <a:ext cx="1904760" cy="38124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5"/>
          <p:cNvSpPr/>
          <p:nvPr/>
        </p:nvSpPr>
        <p:spPr>
          <a:xfrm>
            <a:off x="3200400" y="1828800"/>
            <a:ext cx="2133720" cy="5126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0,sum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6"/>
          <p:cNvSpPr/>
          <p:nvPr/>
        </p:nvSpPr>
        <p:spPr>
          <a:xfrm>
            <a:off x="2819520" y="3962520"/>
            <a:ext cx="3047760" cy="10666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 *10 +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2971800" y="5465880"/>
            <a:ext cx="2514600" cy="53316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8"/>
          <p:cNvSpPr/>
          <p:nvPr/>
        </p:nvSpPr>
        <p:spPr>
          <a:xfrm>
            <a:off x="3352680" y="2646360"/>
            <a:ext cx="1676520" cy="106668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3200400" y="630396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1"/>
          <p:cNvSpPr/>
          <p:nvPr/>
        </p:nvSpPr>
        <p:spPr>
          <a:xfrm>
            <a:off x="4191120" y="3713040"/>
            <a:ext cx="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2"/>
          <p:cNvSpPr/>
          <p:nvPr/>
        </p:nvSpPr>
        <p:spPr>
          <a:xfrm>
            <a:off x="4210200" y="234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4"/>
          <p:cNvSpPr/>
          <p:nvPr/>
        </p:nvSpPr>
        <p:spPr>
          <a:xfrm>
            <a:off x="4191120" y="5999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8"/>
          <p:cNvSpPr/>
          <p:nvPr/>
        </p:nvSpPr>
        <p:spPr>
          <a:xfrm>
            <a:off x="6095880" y="27273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9"/>
          <p:cNvSpPr/>
          <p:nvPr/>
        </p:nvSpPr>
        <p:spPr>
          <a:xfrm>
            <a:off x="3276720" y="3429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7"/>
          <p:cNvCxnSpPr>
            <a:stCxn id="644" idx="3"/>
            <a:endCxn id="643" idx="1"/>
          </p:cNvCxnSpPr>
          <p:nvPr/>
        </p:nvCxnSpPr>
        <p:spPr>
          <a:xfrm flipH="1">
            <a:off x="4228920" y="3179880"/>
            <a:ext cx="800640" cy="2286720"/>
          </a:xfrm>
          <a:prstGeom prst="bentConnector4">
            <a:avLst>
              <a:gd name="adj1" fmla="val -247818"/>
              <a:gd name="adj2" fmla="val 925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2" name="AutoShape 7"/>
          <p:cNvSpPr/>
          <p:nvPr/>
        </p:nvSpPr>
        <p:spPr>
          <a:xfrm>
            <a:off x="2951280" y="106668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0"/>
          <p:cNvSpPr/>
          <p:nvPr/>
        </p:nvSpPr>
        <p:spPr>
          <a:xfrm>
            <a:off x="4191120" y="158580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0"/>
          <p:cNvSpPr/>
          <p:nvPr/>
        </p:nvSpPr>
        <p:spPr>
          <a:xfrm>
            <a:off x="4191120" y="82404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Elbow Connector 20"/>
          <p:cNvCxnSpPr>
            <a:stCxn id="642" idx="2"/>
          </p:cNvCxnSpPr>
          <p:nvPr/>
        </p:nvCxnSpPr>
        <p:spPr>
          <a:xfrm flipV="1" rot="16200000">
            <a:off x="1942560" y="2628000"/>
            <a:ext cx="2515320" cy="2286720"/>
          </a:xfrm>
          <a:prstGeom prst="bentConnector3">
            <a:avLst>
              <a:gd name="adj1" fmla="val -46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6" name="Straight Arrow Connector 26"/>
          <p:cNvCxnSpPr/>
          <p:nvPr/>
        </p:nvCxnSpPr>
        <p:spPr>
          <a:xfrm>
            <a:off x="2057040" y="2514600"/>
            <a:ext cx="2134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7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72AC-CBAC-40D9-A81B-484EF819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ooter Placeholder 2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mstrong N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1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1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80BE-B58B-4A24-98A5-78F0D5CE3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an Armstrong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5029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Read the value of n and set a = n, su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While n&gt;0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 + r*r*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Goto ste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Go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5: If a = sum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Armstro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It is Not an Armstro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6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9D8A-E1A6-4BED-A143-D5D4F9EA4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value of n and set a =n, sum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n&gt;0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 + r*r*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loop until condition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=sum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rmstro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It is not an Armstro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7183-8407-429E-A546-9825AD78F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4"/>
          <p:cNvSpPr/>
          <p:nvPr/>
        </p:nvSpPr>
        <p:spPr>
          <a:xfrm>
            <a:off x="3276720" y="442800"/>
            <a:ext cx="1904760" cy="38124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5"/>
          <p:cNvSpPr/>
          <p:nvPr/>
        </p:nvSpPr>
        <p:spPr>
          <a:xfrm>
            <a:off x="3200400" y="1690560"/>
            <a:ext cx="2133720" cy="3668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n,sum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6"/>
          <p:cNvSpPr/>
          <p:nvPr/>
        </p:nvSpPr>
        <p:spPr>
          <a:xfrm>
            <a:off x="2819520" y="3214800"/>
            <a:ext cx="3047760" cy="10666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 + r*r*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7"/>
          <p:cNvSpPr/>
          <p:nvPr/>
        </p:nvSpPr>
        <p:spPr>
          <a:xfrm>
            <a:off x="2514600" y="5729400"/>
            <a:ext cx="3505320" cy="36036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mstrong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/>
          <p:cNvSpPr/>
          <p:nvPr/>
        </p:nvSpPr>
        <p:spPr>
          <a:xfrm>
            <a:off x="3352680" y="2327400"/>
            <a:ext cx="1676520" cy="7207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9"/>
          <p:cNvSpPr/>
          <p:nvPr/>
        </p:nvSpPr>
        <p:spPr>
          <a:xfrm>
            <a:off x="3200400" y="630396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11"/>
          <p:cNvSpPr/>
          <p:nvPr/>
        </p:nvSpPr>
        <p:spPr>
          <a:xfrm>
            <a:off x="4191120" y="3062160"/>
            <a:ext cx="0" cy="1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2"/>
          <p:cNvSpPr/>
          <p:nvPr/>
        </p:nvSpPr>
        <p:spPr>
          <a:xfrm>
            <a:off x="4210200" y="202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4"/>
          <p:cNvSpPr/>
          <p:nvPr/>
        </p:nvSpPr>
        <p:spPr>
          <a:xfrm>
            <a:off x="4246560" y="609588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8"/>
          <p:cNvSpPr/>
          <p:nvPr/>
        </p:nvSpPr>
        <p:spPr>
          <a:xfrm>
            <a:off x="5715000" y="26668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9"/>
          <p:cNvSpPr/>
          <p:nvPr/>
        </p:nvSpPr>
        <p:spPr>
          <a:xfrm>
            <a:off x="3276720" y="28605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4" name="AutoShape 17"/>
          <p:cNvCxnSpPr>
            <a:stCxn id="677" idx="3"/>
            <a:endCxn id="685" idx="0"/>
          </p:cNvCxnSpPr>
          <p:nvPr/>
        </p:nvCxnSpPr>
        <p:spPr>
          <a:xfrm flipH="1">
            <a:off x="4152600" y="2687400"/>
            <a:ext cx="876960" cy="1996200"/>
          </a:xfrm>
          <a:prstGeom prst="bentConnector4">
            <a:avLst>
              <a:gd name="adj1" fmla="val -185749"/>
              <a:gd name="adj2" fmla="val 90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AutoShape 7"/>
          <p:cNvSpPr/>
          <p:nvPr/>
        </p:nvSpPr>
        <p:spPr>
          <a:xfrm>
            <a:off x="2951280" y="1066680"/>
            <a:ext cx="2514600" cy="38124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4191120" y="144792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0"/>
          <p:cNvSpPr/>
          <p:nvPr/>
        </p:nvSpPr>
        <p:spPr>
          <a:xfrm>
            <a:off x="4191120" y="82404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8"/>
          <p:cNvSpPr/>
          <p:nvPr/>
        </p:nvSpPr>
        <p:spPr>
          <a:xfrm>
            <a:off x="3124080" y="4683240"/>
            <a:ext cx="2057400" cy="7207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=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7"/>
          <p:cNvSpPr/>
          <p:nvPr/>
        </p:nvSpPr>
        <p:spPr>
          <a:xfrm>
            <a:off x="6324480" y="5410080"/>
            <a:ext cx="3505320" cy="6858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 It is Not 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strong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0" name="AutoShape 17"/>
          <p:cNvCxnSpPr>
            <a:stCxn id="685" idx="3"/>
            <a:endCxn id="689" idx="1"/>
          </p:cNvCxnSpPr>
          <p:nvPr/>
        </p:nvCxnSpPr>
        <p:spPr>
          <a:xfrm>
            <a:off x="5181480" y="5043600"/>
            <a:ext cx="2896560" cy="367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1" name="Line 12"/>
          <p:cNvSpPr/>
          <p:nvPr/>
        </p:nvSpPr>
        <p:spPr>
          <a:xfrm>
            <a:off x="41292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2" name="AutoShape 17"/>
          <p:cNvCxnSpPr>
            <a:stCxn id="689" idx="4"/>
          </p:cNvCxnSpPr>
          <p:nvPr/>
        </p:nvCxnSpPr>
        <p:spPr>
          <a:xfrm rot="5400000">
            <a:off x="6133680" y="4228920"/>
            <a:ext cx="76680" cy="3810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3" name="Straight Arrow Connector 52"/>
          <p:cNvCxnSpPr/>
          <p:nvPr/>
        </p:nvCxnSpPr>
        <p:spPr>
          <a:xfrm>
            <a:off x="2397240" y="2206800"/>
            <a:ext cx="18295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4" name="Elbow Connector 55"/>
          <p:cNvCxnSpPr/>
          <p:nvPr/>
        </p:nvCxnSpPr>
        <p:spPr>
          <a:xfrm flipV="1" rot="16200000">
            <a:off x="2327400" y="2292120"/>
            <a:ext cx="2072520" cy="1905840"/>
          </a:xfrm>
          <a:prstGeom prst="bentConnector3">
            <a:avLst>
              <a:gd name="adj1" fmla="val -43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95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4017-30AF-4A77-A413-C8BAFDE71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ooter Placeholder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bonacci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 1 1 2 3 5 8 11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C4F4-9AB9-415F-907D-E7CC69651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Fibonacci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Read the value of n and set f=0,f1=-1, f2=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While (f&lt;n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f1+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1=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2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Goto ste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Go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5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13B1-0C85-4680-91B1-6993249F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value of n and set f=0 ,f1=-1, f2=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&lt;n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f1+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1=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2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loop until condition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3D75-A0FC-4F13-9694-51A2E7C34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3276720" y="442800"/>
            <a:ext cx="1904760" cy="38124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3048120" y="1828800"/>
            <a:ext cx="2514600" cy="5126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0,f1= -1,f2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2819520" y="3630600"/>
            <a:ext cx="3047760" cy="10666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f1+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1=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2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2971800" y="500220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3352680" y="2646360"/>
            <a:ext cx="1676520" cy="706320"/>
          </a:xfrm>
          <a:prstGeom prst="flowChartDecision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&lt;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3200400" y="630396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11"/>
          <p:cNvSpPr/>
          <p:nvPr/>
        </p:nvSpPr>
        <p:spPr>
          <a:xfrm>
            <a:off x="4191120" y="337968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12"/>
          <p:cNvSpPr/>
          <p:nvPr/>
        </p:nvSpPr>
        <p:spPr>
          <a:xfrm>
            <a:off x="4210200" y="234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14"/>
          <p:cNvSpPr/>
          <p:nvPr/>
        </p:nvSpPr>
        <p:spPr>
          <a:xfrm>
            <a:off x="4191120" y="4710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8"/>
          <p:cNvSpPr/>
          <p:nvPr/>
        </p:nvSpPr>
        <p:spPr>
          <a:xfrm>
            <a:off x="609588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9"/>
          <p:cNvSpPr/>
          <p:nvPr/>
        </p:nvSpPr>
        <p:spPr>
          <a:xfrm>
            <a:off x="3276720" y="3206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AutoShape 17"/>
          <p:cNvCxnSpPr>
            <a:stCxn id="715" idx="3"/>
            <a:endCxn id="716" idx="0"/>
          </p:cNvCxnSpPr>
          <p:nvPr/>
        </p:nvCxnSpPr>
        <p:spPr>
          <a:xfrm flipH="1">
            <a:off x="4190760" y="2998440"/>
            <a:ext cx="838800" cy="3305880"/>
          </a:xfrm>
          <a:prstGeom prst="bentConnector4">
            <a:avLst>
              <a:gd name="adj1" fmla="val -255345"/>
              <a:gd name="adj2" fmla="val 943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AutoShape 7"/>
          <p:cNvSpPr/>
          <p:nvPr/>
        </p:nvSpPr>
        <p:spPr>
          <a:xfrm>
            <a:off x="2951280" y="106668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0"/>
          <p:cNvSpPr/>
          <p:nvPr/>
        </p:nvSpPr>
        <p:spPr>
          <a:xfrm>
            <a:off x="4191120" y="158580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10"/>
          <p:cNvSpPr/>
          <p:nvPr/>
        </p:nvSpPr>
        <p:spPr>
          <a:xfrm>
            <a:off x="4191120" y="82404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Elbow Connector 30"/>
          <p:cNvCxnSpPr>
            <a:stCxn id="714" idx="4"/>
          </p:cNvCxnSpPr>
          <p:nvPr/>
        </p:nvCxnSpPr>
        <p:spPr>
          <a:xfrm flipV="1" rot="16200000">
            <a:off x="1746720" y="3052800"/>
            <a:ext cx="3021840" cy="1944000"/>
          </a:xfrm>
          <a:prstGeom prst="bentConnector3">
            <a:avLst>
              <a:gd name="adj1" fmla="val -755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Straight Arrow Connector 34"/>
          <p:cNvCxnSpPr/>
          <p:nvPr/>
        </p:nvCxnSpPr>
        <p:spPr>
          <a:xfrm>
            <a:off x="2286000" y="2514600"/>
            <a:ext cx="1905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8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4B6E-FE2D-4085-A968-297804BC8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ooter Placeholder 2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fall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1600200"/>
            <a:ext cx="16002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28800" y="2438280"/>
            <a:ext cx="160020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010280" y="5562720"/>
            <a:ext cx="190512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715000" y="4724280"/>
            <a:ext cx="1600200" cy="6098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419720" y="3962520"/>
            <a:ext cx="16002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048120" y="3200400"/>
            <a:ext cx="16002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0"/>
          <p:cNvCxnSpPr>
            <a:stCxn id="80" idx="3"/>
            <a:endCxn id="81" idx="0"/>
          </p:cNvCxnSpPr>
          <p:nvPr/>
        </p:nvCxnSpPr>
        <p:spPr>
          <a:xfrm>
            <a:off x="2057400" y="1904760"/>
            <a:ext cx="572400" cy="53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AutoShape 11"/>
          <p:cNvCxnSpPr/>
          <p:nvPr/>
        </p:nvCxnSpPr>
        <p:spPr>
          <a:xfrm>
            <a:off x="3429000" y="2666880"/>
            <a:ext cx="572400" cy="534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12"/>
          <p:cNvCxnSpPr/>
          <p:nvPr/>
        </p:nvCxnSpPr>
        <p:spPr>
          <a:xfrm>
            <a:off x="4647960" y="3429000"/>
            <a:ext cx="572040" cy="534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13"/>
          <p:cNvCxnSpPr/>
          <p:nvPr/>
        </p:nvCxnSpPr>
        <p:spPr>
          <a:xfrm>
            <a:off x="6019560" y="4267080"/>
            <a:ext cx="572040" cy="534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14"/>
          <p:cNvCxnSpPr/>
          <p:nvPr/>
        </p:nvCxnSpPr>
        <p:spPr>
          <a:xfrm>
            <a:off x="7315200" y="5029200"/>
            <a:ext cx="572400" cy="534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17"/>
          <p:cNvCxnSpPr>
            <a:stCxn id="82" idx="2"/>
            <a:endCxn id="80" idx="2"/>
          </p:cNvCxnSpPr>
          <p:nvPr/>
        </p:nvCxnSpPr>
        <p:spPr>
          <a:xfrm flipV="1" rot="16200000">
            <a:off x="2628360" y="837360"/>
            <a:ext cx="3963240" cy="6706080"/>
          </a:xfrm>
          <a:prstGeom prst="bentConnector3">
            <a:avLst>
              <a:gd name="adj1" fmla="val -575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C7BE-2C87-43C9-AB86-BB92FDC29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ion of Celsius to 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2: Read the value of Celsi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3: Fahrenheit = (1.8* Celsius) +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4: Print Fahrenh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5: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171C-4EEC-4463-A3BA-10B28C63E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Cels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Fahrenheit = (1.8* Celsius) +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B0FB-C16D-4175-B6D1-D4C39550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3"/>
          <p:cNvSpPr/>
          <p:nvPr/>
        </p:nvSpPr>
        <p:spPr>
          <a:xfrm>
            <a:off x="2709720" y="1938240"/>
            <a:ext cx="243864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371600" y="3691080"/>
            <a:ext cx="5105520" cy="5000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hrenheit = (1.8* Celsius) + 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5"/>
          <p:cNvSpPr/>
          <p:nvPr/>
        </p:nvSpPr>
        <p:spPr>
          <a:xfrm>
            <a:off x="2057400" y="4648320"/>
            <a:ext cx="380988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6"/>
          <p:cNvSpPr/>
          <p:nvPr/>
        </p:nvSpPr>
        <p:spPr>
          <a:xfrm>
            <a:off x="2557440" y="2852640"/>
            <a:ext cx="2819520" cy="38124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Cels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7"/>
          <p:cNvSpPr/>
          <p:nvPr/>
        </p:nvSpPr>
        <p:spPr>
          <a:xfrm>
            <a:off x="2633760" y="5562720"/>
            <a:ext cx="24382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852720" y="2395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3929040" y="323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392904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392904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30AE-BD8B-4EF6-AEF8-630962EF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ion of Fahrenheit to Cels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2: Read the value of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3:Calculate Celsius =(Fahrenheit – 32)/1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4: Print Cels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5: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994B-A0BE-4F5F-A0B9-93D03DB3C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Cels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Celsius =(Fahrenheit – 32)/1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Cels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B8F4-27A5-4307-9FF8-FE3FBB423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3"/>
          <p:cNvSpPr/>
          <p:nvPr/>
        </p:nvSpPr>
        <p:spPr>
          <a:xfrm>
            <a:off x="2709720" y="1938240"/>
            <a:ext cx="243864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1752480" y="3691080"/>
            <a:ext cx="4343400" cy="5000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sius =(Fahrenheit – 32)/1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5"/>
          <p:cNvSpPr/>
          <p:nvPr/>
        </p:nvSpPr>
        <p:spPr>
          <a:xfrm>
            <a:off x="2405160" y="4648320"/>
            <a:ext cx="3047760" cy="45720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 Cels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6"/>
          <p:cNvSpPr/>
          <p:nvPr/>
        </p:nvSpPr>
        <p:spPr>
          <a:xfrm>
            <a:off x="1981080" y="2852640"/>
            <a:ext cx="3733920" cy="38124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7"/>
          <p:cNvSpPr/>
          <p:nvPr/>
        </p:nvSpPr>
        <p:spPr>
          <a:xfrm>
            <a:off x="2633760" y="5562720"/>
            <a:ext cx="24382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8"/>
          <p:cNvSpPr/>
          <p:nvPr/>
        </p:nvSpPr>
        <p:spPr>
          <a:xfrm>
            <a:off x="3852720" y="2395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9"/>
          <p:cNvSpPr/>
          <p:nvPr/>
        </p:nvSpPr>
        <p:spPr>
          <a:xfrm>
            <a:off x="3929040" y="3233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0"/>
          <p:cNvSpPr/>
          <p:nvPr/>
        </p:nvSpPr>
        <p:spPr>
          <a:xfrm>
            <a:off x="392904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1"/>
          <p:cNvSpPr/>
          <p:nvPr/>
        </p:nvSpPr>
        <p:spPr>
          <a:xfrm>
            <a:off x="392904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D61-F67A-4F1F-89F9-DC2468D4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sum of odd number between 1 to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Read the value of n and set sum=0,i=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While (i&lt;=n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i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Goto ste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Go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5: Print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6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A505-AF52-4B3C-8C05-6A3D01985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value of n and set sum=0,i=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i&lt;=n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i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loop until condition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2E20-6C82-49F1-AA7B-F016318A3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"/>
          <p:cNvSpPr/>
          <p:nvPr/>
        </p:nvSpPr>
        <p:spPr>
          <a:xfrm>
            <a:off x="3276720" y="442800"/>
            <a:ext cx="1904760" cy="38124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"/>
          <p:cNvSpPr/>
          <p:nvPr/>
        </p:nvSpPr>
        <p:spPr>
          <a:xfrm>
            <a:off x="3048120" y="1828800"/>
            <a:ext cx="2514600" cy="5126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0,i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6"/>
          <p:cNvSpPr/>
          <p:nvPr/>
        </p:nvSpPr>
        <p:spPr>
          <a:xfrm>
            <a:off x="2819520" y="3298680"/>
            <a:ext cx="3047760" cy="10670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+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7"/>
          <p:cNvSpPr/>
          <p:nvPr/>
        </p:nvSpPr>
        <p:spPr>
          <a:xfrm>
            <a:off x="2971800" y="524340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9"/>
          <p:cNvSpPr/>
          <p:nvPr/>
        </p:nvSpPr>
        <p:spPr>
          <a:xfrm>
            <a:off x="3200400" y="609588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1"/>
          <p:cNvSpPr/>
          <p:nvPr/>
        </p:nvSpPr>
        <p:spPr>
          <a:xfrm>
            <a:off x="4191120" y="3048120"/>
            <a:ext cx="0" cy="25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2"/>
          <p:cNvSpPr/>
          <p:nvPr/>
        </p:nvSpPr>
        <p:spPr>
          <a:xfrm>
            <a:off x="4210200" y="234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2951280" y="106668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4191120" y="158580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0"/>
          <p:cNvSpPr/>
          <p:nvPr/>
        </p:nvSpPr>
        <p:spPr>
          <a:xfrm>
            <a:off x="4191120" y="82404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0" name="Straight Arrow Connector 34"/>
          <p:cNvCxnSpPr/>
          <p:nvPr/>
        </p:nvCxnSpPr>
        <p:spPr>
          <a:xfrm>
            <a:off x="1752480" y="2833560"/>
            <a:ext cx="124668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1" name="Flowchart: Preparation 38"/>
          <p:cNvSpPr/>
          <p:nvPr/>
        </p:nvSpPr>
        <p:spPr>
          <a:xfrm>
            <a:off x="2997360" y="2668680"/>
            <a:ext cx="2514600" cy="380880"/>
          </a:xfrm>
          <a:prstGeom prst="flowChartPreparation">
            <a:avLst/>
          </a:prstGeom>
          <a:solidFill>
            <a:srgbClr val="b3b3b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 i&lt;=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2" name="Straight Arrow Connector 43"/>
          <p:cNvCxnSpPr/>
          <p:nvPr/>
        </p:nvCxnSpPr>
        <p:spPr>
          <a:xfrm>
            <a:off x="1752480" y="4621320"/>
            <a:ext cx="2439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3" name="Straight Connector 48"/>
          <p:cNvSpPr/>
          <p:nvPr/>
        </p:nvSpPr>
        <p:spPr>
          <a:xfrm flipH="1">
            <a:off x="1773360" y="279252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Straight Arrow Connector 52"/>
          <p:cNvCxnSpPr/>
          <p:nvPr/>
        </p:nvCxnSpPr>
        <p:spPr>
          <a:xfrm flipH="1">
            <a:off x="4190760" y="4329000"/>
            <a:ext cx="21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5" name="Line 12"/>
          <p:cNvSpPr/>
          <p:nvPr/>
        </p:nvSpPr>
        <p:spPr>
          <a:xfrm>
            <a:off x="41911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E33A-FE08-45FF-868F-6F83763A5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sum of even number between 1 to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Read the value of n and set sum=0,i=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While (i&lt;=n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i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Goto step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Go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5: Print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6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3A00-4A20-4175-A31E-E2BB3259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termines whether it is possible to create the project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produce the plans and the estim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et the requirements from the custo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nalysis the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33FA-DDC9-4266-8167-189434E3E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value of n and set sum=0,i=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i&lt;=n)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i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the loop until condition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908E-66A0-40F2-AF30-5D08DAAD9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/>
          <p:cNvSpPr/>
          <p:nvPr/>
        </p:nvSpPr>
        <p:spPr>
          <a:xfrm>
            <a:off x="3276720" y="442800"/>
            <a:ext cx="1904760" cy="38124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5"/>
          <p:cNvSpPr/>
          <p:nvPr/>
        </p:nvSpPr>
        <p:spPr>
          <a:xfrm>
            <a:off x="3048120" y="1828800"/>
            <a:ext cx="2514600" cy="5126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0,i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6"/>
          <p:cNvSpPr/>
          <p:nvPr/>
        </p:nvSpPr>
        <p:spPr>
          <a:xfrm>
            <a:off x="2819520" y="3616200"/>
            <a:ext cx="3047760" cy="70668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+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7"/>
          <p:cNvSpPr/>
          <p:nvPr/>
        </p:nvSpPr>
        <p:spPr>
          <a:xfrm>
            <a:off x="2971800" y="524340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9"/>
          <p:cNvSpPr/>
          <p:nvPr/>
        </p:nvSpPr>
        <p:spPr>
          <a:xfrm>
            <a:off x="3200400" y="609588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2"/>
          <p:cNvSpPr/>
          <p:nvPr/>
        </p:nvSpPr>
        <p:spPr>
          <a:xfrm>
            <a:off x="4210200" y="234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951280" y="106668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0"/>
          <p:cNvSpPr/>
          <p:nvPr/>
        </p:nvSpPr>
        <p:spPr>
          <a:xfrm>
            <a:off x="4191120" y="158580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0"/>
          <p:cNvSpPr/>
          <p:nvPr/>
        </p:nvSpPr>
        <p:spPr>
          <a:xfrm>
            <a:off x="4191120" y="82404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Straight Arrow Connector 34"/>
          <p:cNvCxnSpPr>
            <a:endCxn id="818" idx="1"/>
          </p:cNvCxnSpPr>
          <p:nvPr/>
        </p:nvCxnSpPr>
        <p:spPr>
          <a:xfrm flipV="1">
            <a:off x="1752480" y="2821680"/>
            <a:ext cx="92952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8" name="Flowchart: Preparation 38"/>
          <p:cNvSpPr/>
          <p:nvPr/>
        </p:nvSpPr>
        <p:spPr>
          <a:xfrm>
            <a:off x="2681280" y="2631960"/>
            <a:ext cx="3048120" cy="381240"/>
          </a:xfrm>
          <a:prstGeom prst="flowChartPreparation">
            <a:avLst/>
          </a:prstGeom>
          <a:solidFill>
            <a:srgbClr val="b3b3b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 i&lt;=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9" name="Straight Arrow Connector 43"/>
          <p:cNvCxnSpPr/>
          <p:nvPr/>
        </p:nvCxnSpPr>
        <p:spPr>
          <a:xfrm>
            <a:off x="1752480" y="4621320"/>
            <a:ext cx="2439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0" name="Straight Connector 48"/>
          <p:cNvSpPr/>
          <p:nvPr/>
        </p:nvSpPr>
        <p:spPr>
          <a:xfrm flipH="1">
            <a:off x="1773360" y="2792520"/>
            <a:ext cx="14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1" name="Straight Arrow Connector 52"/>
          <p:cNvCxnSpPr/>
          <p:nvPr/>
        </p:nvCxnSpPr>
        <p:spPr>
          <a:xfrm flipH="1">
            <a:off x="4190760" y="4329000"/>
            <a:ext cx="216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2" name="Line 12"/>
          <p:cNvSpPr/>
          <p:nvPr/>
        </p:nvSpPr>
        <p:spPr>
          <a:xfrm>
            <a:off x="41911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11"/>
          <p:cNvSpPr/>
          <p:nvPr/>
        </p:nvSpPr>
        <p:spPr>
          <a:xfrm>
            <a:off x="4191120" y="2986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93DD-888D-47D2-880F-122968CE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ooter Placeholder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ion of Binary number to Dec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Read the value of n and set i = 0, sum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While n&gt;0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=sum + r*pow(2,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=i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 Goto ste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Goto 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5: print the value of 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6: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59BB-A073-4DE4-8CAC-0343C0FB6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eud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value of n and set i =0, sum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n&gt;0)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 + r*pow(2,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the loop until condition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8F7F-61DF-413F-8827-45C9670E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4"/>
          <p:cNvSpPr/>
          <p:nvPr/>
        </p:nvSpPr>
        <p:spPr>
          <a:xfrm>
            <a:off x="3276720" y="442800"/>
            <a:ext cx="1904760" cy="38124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5"/>
          <p:cNvSpPr/>
          <p:nvPr/>
        </p:nvSpPr>
        <p:spPr>
          <a:xfrm>
            <a:off x="3048120" y="1828800"/>
            <a:ext cx="2514600" cy="51264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0,i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7"/>
          <p:cNvSpPr/>
          <p:nvPr/>
        </p:nvSpPr>
        <p:spPr>
          <a:xfrm>
            <a:off x="2971800" y="524340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9"/>
          <p:cNvSpPr/>
          <p:nvPr/>
        </p:nvSpPr>
        <p:spPr>
          <a:xfrm>
            <a:off x="3200400" y="6095880"/>
            <a:ext cx="1981080" cy="457200"/>
          </a:xfrm>
          <a:prstGeom prst="flowChartTerminator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2"/>
          <p:cNvSpPr/>
          <p:nvPr/>
        </p:nvSpPr>
        <p:spPr>
          <a:xfrm>
            <a:off x="4210200" y="234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7"/>
          <p:cNvSpPr/>
          <p:nvPr/>
        </p:nvSpPr>
        <p:spPr>
          <a:xfrm>
            <a:off x="2951280" y="1066680"/>
            <a:ext cx="2514600" cy="533520"/>
          </a:xfrm>
          <a:prstGeom prst="flowChartInputOutpu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0"/>
          <p:cNvSpPr/>
          <p:nvPr/>
        </p:nvSpPr>
        <p:spPr>
          <a:xfrm>
            <a:off x="4191120" y="158580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10"/>
          <p:cNvSpPr/>
          <p:nvPr/>
        </p:nvSpPr>
        <p:spPr>
          <a:xfrm>
            <a:off x="4191120" y="82404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lowchart: Preparation 38"/>
          <p:cNvSpPr/>
          <p:nvPr/>
        </p:nvSpPr>
        <p:spPr>
          <a:xfrm>
            <a:off x="2681280" y="2631960"/>
            <a:ext cx="3048120" cy="381240"/>
          </a:xfrm>
          <a:prstGeom prst="flowChartPreparation">
            <a:avLst/>
          </a:prstGeom>
          <a:solidFill>
            <a:srgbClr val="b3b3b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 n&gt;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5" name="Straight Arrow Connector 43"/>
          <p:cNvCxnSpPr/>
          <p:nvPr/>
        </p:nvCxnSpPr>
        <p:spPr>
          <a:xfrm>
            <a:off x="1752480" y="4799160"/>
            <a:ext cx="24390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6" name="Straight Connector 48"/>
          <p:cNvSpPr/>
          <p:nvPr/>
        </p:nvSpPr>
        <p:spPr>
          <a:xfrm flipH="1">
            <a:off x="1773360" y="2792520"/>
            <a:ext cx="1440" cy="200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2"/>
          <p:cNvSpPr/>
          <p:nvPr/>
        </p:nvSpPr>
        <p:spPr>
          <a:xfrm>
            <a:off x="41911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4191120" y="2986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6"/>
          <p:cNvSpPr/>
          <p:nvPr/>
        </p:nvSpPr>
        <p:spPr>
          <a:xfrm>
            <a:off x="2819520" y="3276720"/>
            <a:ext cx="3047760" cy="1371600"/>
          </a:xfrm>
          <a:prstGeom prst="flowChartProcess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=sum + r*Pow(2,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=n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23"/>
          <p:cNvSpPr/>
          <p:nvPr/>
        </p:nvSpPr>
        <p:spPr>
          <a:xfrm>
            <a:off x="1752480" y="2819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24"/>
          <p:cNvSpPr/>
          <p:nvPr/>
        </p:nvSpPr>
        <p:spPr>
          <a:xfrm>
            <a:off x="41911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4C0A-C52A-49F4-8936-E20108862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ooter Placeholder 2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ornilo Naf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6:22:47Z</dcterms:created>
  <dc:creator>ayaps</dc:creator>
  <dc:description/>
  <dc:language>en-US</dc:language>
  <cp:lastModifiedBy>Windows User</cp:lastModifiedBy>
  <dcterms:modified xsi:type="dcterms:W3CDTF">2022-08-24T05:23:14Z</dcterms:modified>
  <cp:revision>224</cp:revision>
  <dc:subject/>
  <dc:title>UNIT - 3</dc:title>
</cp:coreProperties>
</file>