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2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44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E3C4-8BBB-4383-A25C-3B01208A7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A573-E3F6-4BE6-A2ED-396E30D48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60F-352F-4763-B014-0E399127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DD8-C938-4FC7-8534-75BCEA00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8AD-20EA-4989-8411-46519975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095-D8C6-48E6-B25C-AD43505B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D0D-CAD5-4154-ADE2-2C75EB26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901-60E5-48FA-9C34-2DD21B01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6ED-AF8D-41D3-B8BF-6DD0A296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098-A976-4673-A0BF-2288BCD5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5763-FE4F-42A2-AEA6-F37E53AD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5C07-67D4-461B-9A54-DD3F2160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7C5-A0D9-4A26-96EB-ABB2ACD1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4CB-92F9-421A-B2F5-ABAD58A3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764E-191A-491F-AB3D-DF6FB29A2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D168-30B0-4A9E-92FB-0F24F7044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Token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581280" y="1905120"/>
            <a:ext cx="182880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76320" y="3367080"/>
            <a:ext cx="1523880" cy="1523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ma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724040" y="3367080"/>
            <a:ext cx="1523880" cy="1523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i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6524640" y="3367080"/>
            <a:ext cx="1371600" cy="1523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5105520" y="3367080"/>
            <a:ext cx="1218960" cy="1523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“a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8001000" y="3367080"/>
            <a:ext cx="1143000" cy="1523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3400560" y="3367080"/>
            <a:ext cx="1523880" cy="1523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:17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11"/>
          <p:cNvCxnSpPr>
            <a:stCxn id="109" idx="2"/>
            <a:endCxn id="110" idx="0"/>
          </p:cNvCxnSpPr>
          <p:nvPr/>
        </p:nvCxnSpPr>
        <p:spPr>
          <a:xfrm rot="5400000">
            <a:off x="2239920" y="1112040"/>
            <a:ext cx="853200" cy="3658320"/>
          </a:xfrm>
          <a:prstGeom prst="bentConnector3">
            <a:avLst>
              <a:gd name="adj1" fmla="val 4989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AutoShape 12"/>
          <p:cNvCxnSpPr>
            <a:stCxn id="109" idx="2"/>
            <a:endCxn id="114" idx="0"/>
          </p:cNvCxnSpPr>
          <p:nvPr/>
        </p:nvCxnSpPr>
        <p:spPr>
          <a:xfrm flipH="1" rot="16200000">
            <a:off x="6107040" y="902160"/>
            <a:ext cx="853200" cy="4077720"/>
          </a:xfrm>
          <a:prstGeom prst="bentConnector3">
            <a:avLst>
              <a:gd name="adj1" fmla="val 498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Line 13"/>
          <p:cNvSpPr/>
          <p:nvPr/>
        </p:nvSpPr>
        <p:spPr>
          <a:xfrm>
            <a:off x="2514600" y="293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4191120" y="2928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>
            <a:off x="5791320" y="2943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7238880" y="293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DB75-4BB6-46AF-8A94-3F8FEC0DE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tatement (Simple i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(condition i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AA79-E13A-46E6-9272-BD518E8AA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tatement (Simple i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ain 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rscr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Enter a number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("%d",&amp;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(a&gt;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 \n a is greater than 10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ch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3"/>
          <p:cNvSpPr/>
          <p:nvPr/>
        </p:nvSpPr>
        <p:spPr>
          <a:xfrm>
            <a:off x="5105520" y="2084400"/>
            <a:ext cx="3047760" cy="22885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umber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s greater than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0433-BD21-4A85-9739-23417C3F5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els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57200" y="7621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(condition i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94DE-713B-4B70-99ED-7065C72CB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els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5331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 (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rscr(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\nEnter a number: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f("%d",&amp;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(a&gt;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 \n a is greater than 10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 \n a is not greater than 10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ch(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"/>
          <p:cNvSpPr/>
          <p:nvPr/>
        </p:nvSpPr>
        <p:spPr>
          <a:xfrm>
            <a:off x="5410080" y="990720"/>
            <a:ext cx="3353040" cy="375156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umber: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s greater than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umber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s not greater than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A2E1-6853-47AD-A574-B7ACD9DEE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sted if else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(condition i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se if (condition i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se if (condition i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3"/>
          <p:cNvSpPr/>
          <p:nvPr/>
        </p:nvSpPr>
        <p:spPr>
          <a:xfrm>
            <a:off x="4572000" y="1295280"/>
            <a:ext cx="3809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8310-AF88-4BF3-9B3C-A70CF8032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sted if else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m1,m2,m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av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Enter the marks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("%d%d%d",&amp;m1,&amp;m2,&amp;m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g=(m1+m2+m3)/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 The average is:%f",av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 The Grade is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(avg&gt;=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First class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2684-02D4-45BE-8C19-5394EBD01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(avg&gt;=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Second class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(avg&gt;=3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Third class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Fai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3"/>
          <p:cNvSpPr/>
          <p:nvPr/>
        </p:nvSpPr>
        <p:spPr>
          <a:xfrm>
            <a:off x="5410080" y="990720"/>
            <a:ext cx="3353040" cy="44830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marks: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is:7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ade is: First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88A3-FAF8-4A6F-9010-DA9813364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sted if 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 &lt;stdio.h&gt; //Program to find leap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 ye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Enter a year to check if it is a leap year : \n"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f("%d", &amp;year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( year%400 == 0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%d is a leap year.\n", year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se if ( year%100 == 0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%d is not a leap year.\n", year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se if ( year%4 == 0 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%d is a leap year.\n", year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%d is not a leap year.\n", year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ch(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3"/>
          <p:cNvSpPr/>
          <p:nvPr/>
        </p:nvSpPr>
        <p:spPr>
          <a:xfrm>
            <a:off x="6095880" y="2838600"/>
            <a:ext cx="2590920" cy="31424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 year to check if it is a leap year :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 is a leap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CC14-8E80-4DB6-9E4B-4A2396DE5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tch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(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constant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constant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bl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9"/>
          <p:cNvSpPr/>
          <p:nvPr/>
        </p:nvSpPr>
        <p:spPr>
          <a:xfrm>
            <a:off x="6019920" y="2057400"/>
            <a:ext cx="1600200" cy="6094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10"/>
          <p:cNvSpPr/>
          <p:nvPr/>
        </p:nvSpPr>
        <p:spPr>
          <a:xfrm>
            <a:off x="6019920" y="3276720"/>
            <a:ext cx="1600200" cy="6094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1"/>
          <p:cNvSpPr/>
          <p:nvPr/>
        </p:nvSpPr>
        <p:spPr>
          <a:xfrm>
            <a:off x="6019920" y="4495680"/>
            <a:ext cx="1600200" cy="6098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20"/>
          <p:cNvSpPr/>
          <p:nvPr/>
        </p:nvSpPr>
        <p:spPr>
          <a:xfrm>
            <a:off x="7643880" y="4876920"/>
            <a:ext cx="357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21"/>
          <p:cNvSpPr/>
          <p:nvPr/>
        </p:nvSpPr>
        <p:spPr>
          <a:xfrm>
            <a:off x="7620120" y="3505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9"/>
          <p:cNvSpPr/>
          <p:nvPr/>
        </p:nvSpPr>
        <p:spPr>
          <a:xfrm>
            <a:off x="4067280" y="1324080"/>
            <a:ext cx="1600200" cy="6094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AutoShape 29"/>
          <p:cNvCxnSpPr>
            <a:stCxn id="731" idx="2"/>
            <a:endCxn id="728" idx="1"/>
          </p:cNvCxnSpPr>
          <p:nvPr/>
        </p:nvCxnSpPr>
        <p:spPr>
          <a:xfrm flipH="1" rot="16200000">
            <a:off x="4010040" y="2790360"/>
            <a:ext cx="2867760" cy="11534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3" name="Oval 30"/>
          <p:cNvSpPr/>
          <p:nvPr/>
        </p:nvSpPr>
        <p:spPr>
          <a:xfrm>
            <a:off x="4648320" y="5638680"/>
            <a:ext cx="609480" cy="4572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31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5" name="AutoShape 32"/>
          <p:cNvCxnSpPr>
            <a:stCxn id="726" idx="3"/>
            <a:endCxn id="733" idx="6"/>
          </p:cNvCxnSpPr>
          <p:nvPr/>
        </p:nvCxnSpPr>
        <p:spPr>
          <a:xfrm flipH="1">
            <a:off x="5257440" y="2362320"/>
            <a:ext cx="2363040" cy="3505680"/>
          </a:xfrm>
          <a:prstGeom prst="bentConnector3">
            <a:avLst>
              <a:gd name="adj1" fmla="val -1631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Line 34"/>
          <p:cNvSpPr/>
          <p:nvPr/>
        </p:nvSpPr>
        <p:spPr>
          <a:xfrm>
            <a:off x="6781680" y="3962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5"/>
          <p:cNvSpPr/>
          <p:nvPr/>
        </p:nvSpPr>
        <p:spPr>
          <a:xfrm>
            <a:off x="4900680" y="2400480"/>
            <a:ext cx="1119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5"/>
          <p:cNvSpPr/>
          <p:nvPr/>
        </p:nvSpPr>
        <p:spPr>
          <a:xfrm>
            <a:off x="4900680" y="3581280"/>
            <a:ext cx="1119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6FBC-0F53-4095-B6A2-F133F02CB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ooter Placeholder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itch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,b,c,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Enter the value of a,b: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("%d%d",&amp;a,&amp;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MENU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1.ADD\n2.SUB\n3.MULTIPLY\n4.EXIT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Enter the choice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("%d",&amp;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1E79-9054-40C8-81B8-7545EBD24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ng a C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2286000" y="1828800"/>
            <a:ext cx="373392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ng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286000" y="3048120"/>
            <a:ext cx="373392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286000" y="4267080"/>
            <a:ext cx="3733920" cy="6098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2286000" y="5486400"/>
            <a:ext cx="373392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own Arrow 9"/>
          <p:cNvSpPr/>
          <p:nvPr/>
        </p:nvSpPr>
        <p:spPr>
          <a:xfrm>
            <a:off x="3352680" y="2590920"/>
            <a:ext cx="14479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own Arrow 16"/>
          <p:cNvSpPr/>
          <p:nvPr/>
        </p:nvSpPr>
        <p:spPr>
          <a:xfrm>
            <a:off x="3352680" y="5029200"/>
            <a:ext cx="1447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own Arrow 17"/>
          <p:cNvSpPr/>
          <p:nvPr/>
        </p:nvSpPr>
        <p:spPr>
          <a:xfrm>
            <a:off x="3352680" y="3809880"/>
            <a:ext cx="144792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7E15-C92F-459D-BC9A-03D55AFA8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a+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The result of Addition is:%d",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a-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The result of Subtraction is:%d",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6031-F760-449A-B9C0-63D5FF1E8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a*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The result of Multiplication is:%d",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(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Wrong Choic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"/>
          <p:cNvSpPr/>
          <p:nvPr/>
        </p:nvSpPr>
        <p:spPr>
          <a:xfrm>
            <a:off x="3200400" y="1752480"/>
            <a:ext cx="5181480" cy="44816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value of a,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MULTI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choice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of Addition is: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FE99-AB5F-4F74-A875-818B84D4A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al State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 conditional operat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Enter a number : “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(“%d”,&amp;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%2==0)?printf(“even”):printf(“odd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"/>
          <p:cNvSpPr/>
          <p:nvPr/>
        </p:nvSpPr>
        <p:spPr>
          <a:xfrm>
            <a:off x="4648320" y="2762280"/>
            <a:ext cx="2819160" cy="25074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 number 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F9F6-627E-43A0-B882-BC43FCC6D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to state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is encountered, the control is transferred to the lab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o label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9" name="AutoShape 6"/>
          <p:cNvCxnSpPr/>
          <p:nvPr/>
        </p:nvCxnSpPr>
        <p:spPr>
          <a:xfrm flipH="1">
            <a:off x="2133360" y="2057400"/>
            <a:ext cx="762480" cy="2363040"/>
          </a:xfrm>
          <a:prstGeom prst="bentConnector3">
            <a:avLst>
              <a:gd name="adj1" fmla="val -12512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8EC4-0141-4219-9F26-AAD14D5D4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to state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f(“Enter a number to find odd or even no : “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f(“%d”,&amp;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(x%2==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o ev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to od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B3E7-75B8-4E18-885E-09D408CFB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to state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f(“%d is an even no”,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f(“%d is an odd no”,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"/>
          <p:cNvSpPr/>
          <p:nvPr/>
        </p:nvSpPr>
        <p:spPr>
          <a:xfrm>
            <a:off x="1676520" y="3413160"/>
            <a:ext cx="5715000" cy="25074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 number to find odd or even no 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is an odd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2D36-3658-47DE-8207-25144A85C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&lt;conio.h&gt;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{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 a,b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ntf(“Enter two value to subtract : \n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anf(“\n%d%d”,&amp;a,&amp;b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(a&gt;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ntf(“Subtracted value is : %d\n”,(a-b)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3"/>
          <p:cNvSpPr/>
          <p:nvPr/>
        </p:nvSpPr>
        <p:spPr>
          <a:xfrm>
            <a:off x="3200400" y="4419720"/>
            <a:ext cx="4038480" cy="31654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wo value to subtrac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ed value is 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title"/>
          </p:nvPr>
        </p:nvSpPr>
        <p:spPr>
          <a:xfrm>
            <a:off x="2971440" y="761760"/>
            <a:ext cx="5791320" cy="1904760"/>
          </a:xfrm>
          <a:prstGeom prst="rect">
            <a:avLst/>
          </a:prstGeom>
          <a:noFill/>
          <a:ln w="604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en break statement is encountered inside any block or loop, control automatically passes to the first statement after the block or lo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 state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4D04-5B37-4417-AD94-DBC792A35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&lt;conio.h&gt;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{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 a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(a=1;a&lt;=10;a++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((a==5)||(a==7)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ntf(“%d\n”,a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3"/>
          <p:cNvSpPr/>
          <p:nvPr/>
        </p:nvSpPr>
        <p:spPr>
          <a:xfrm>
            <a:off x="5029200" y="2209680"/>
            <a:ext cx="1676520" cy="44816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title"/>
          </p:nvPr>
        </p:nvSpPr>
        <p:spPr>
          <a:xfrm>
            <a:off x="2971440" y="761760"/>
            <a:ext cx="5791320" cy="1447560"/>
          </a:xfrm>
          <a:prstGeom prst="rect">
            <a:avLst/>
          </a:prstGeom>
          <a:noFill/>
          <a:ln w="60480">
            <a:solidFill>
              <a:srgbClr val="ff3399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inue statement terminates the current loop iteration &amp; persist the loop with next ite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 state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26A7-39C6-4E23-91FC-B2F783A30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p is defined as a block of statements which are repeatedly executed for certain no of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Loop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hil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oop(simple &amp; neste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2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anching and Loop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EF81-2B1A-4457-89C1-1406E204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is an entry controlled loop works only when the condition is tr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ile (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dy of the loo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6A21-F191-4214-AD85-EF22B11CF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ing a C Program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program in a C edi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he program (Fi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ve) or F2. Use the extension .c for saving the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s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 the program(Compi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ile) or Alt+F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e program(Ru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un) or Ctrl+F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4DD7-B908-4C1C-9470-A77FCB3BE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  //program to print even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 n,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“Enter the limit : “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f(“%d”,&amp;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=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(i&lt;=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(i%2==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“%d\t”,i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++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3"/>
          <p:cNvSpPr/>
          <p:nvPr/>
        </p:nvSpPr>
        <p:spPr>
          <a:xfrm>
            <a:off x="4419720" y="2762280"/>
            <a:ext cx="4190760" cy="25074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limit 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E5E4-52BC-4BDA-9DE4-B8942B0DE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  //program to calculate factorial of given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 i=1,fact=1,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\nEnter the Number: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f("%d",&amp;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while(i&lt;=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fact =fact *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i++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\n The value of %d! is:%d",n,fact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3"/>
          <p:cNvSpPr/>
          <p:nvPr/>
        </p:nvSpPr>
        <p:spPr>
          <a:xfrm>
            <a:off x="4572000" y="2171880"/>
            <a:ext cx="2895480" cy="29098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umber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3! is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321F-B4D7-473B-9458-514EB7352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  //program to reverse a number and to che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// whether it is palindrome or n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 n,t,rev=0;`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“Enter a number to reverse : “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f(“%d”,&amp;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=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(t!=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=rev*1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=rev+(t%10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=t/1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“Reverse of given no is : %d\n”,rev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3"/>
          <p:cNvSpPr/>
          <p:nvPr/>
        </p:nvSpPr>
        <p:spPr>
          <a:xfrm>
            <a:off x="5943600" y="4495680"/>
            <a:ext cx="2895480" cy="33372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 number to reverse : 4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 of given number is : 2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ali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4"/>
          <p:cNvSpPr/>
          <p:nvPr/>
        </p:nvSpPr>
        <p:spPr>
          <a:xfrm>
            <a:off x="5334120" y="1295280"/>
            <a:ext cx="3657600" cy="3445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(n==re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“Palindrome”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“Not Palindrome”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ch(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0664-B383-4D85-9147-BEEDD4E6B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&lt;stdio.h&gt;  //program to find sum of dig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 r=0,sum=0,n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ntf("\nEnter the no:"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anf("%d",&amp;n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ile(n&gt;0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=n%10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m=sum+r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=n/10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ntf("sum of the digits is:%d",sum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ch(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3"/>
          <p:cNvSpPr/>
          <p:nvPr/>
        </p:nvSpPr>
        <p:spPr>
          <a:xfrm>
            <a:off x="4800600" y="1371600"/>
            <a:ext cx="2895480" cy="3032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no:1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 the digits is: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573F-3BB6-433F-B8A3-FA236B889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include&lt;stdio.h&gt;  //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am to find armstrong numb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 r=0,sum=0,n,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tf("\nEnter the number: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nf("%d",&amp;n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=n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ile(n&gt;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=n%10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=sum+r*r*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=n/10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(a==su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tf("\nIt is an armstrong number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tf("\nIt is not an armstrong number"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3"/>
          <p:cNvSpPr/>
          <p:nvPr/>
        </p:nvSpPr>
        <p:spPr>
          <a:xfrm>
            <a:off x="4800600" y="1371600"/>
            <a:ext cx="3200400" cy="33372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number:1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n armstrong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788F-C0F8-4D6D-99CB-345B1A32C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 is an exit controlled loop. It proceeds its first iteration without checking the loop condition and proceeds next iteration by checking the condi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dy of the loo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while (conditio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while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9C01-9FE9-438B-9C39-6068F78D5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  //program to print even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 n,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“Enter the limit : “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f(“%d”,&amp;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=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(i%2==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“%d\t”,i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++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while (i&lt;=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while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3"/>
          <p:cNvSpPr/>
          <p:nvPr/>
        </p:nvSpPr>
        <p:spPr>
          <a:xfrm>
            <a:off x="4419720" y="2762280"/>
            <a:ext cx="4190760" cy="25074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limit :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5C84-382D-4C0C-86A5-322F0A320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  //program to calculate factorial of given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 i=1,fact=1,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\nEnter the Number: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f("%d",&amp;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fact =fact *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i++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3399"/>
                </a:solidFill>
                <a:latin typeface="Arial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le (i&lt;=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"\n The value of %d! is:%d",n,fact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while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3"/>
          <p:cNvSpPr/>
          <p:nvPr/>
        </p:nvSpPr>
        <p:spPr>
          <a:xfrm>
            <a:off x="4572000" y="2171880"/>
            <a:ext cx="2895480" cy="29098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umber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3! is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C987-499F-4897-A9AC-26D53C5E5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while  l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/program to generate fibonacci ser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3"/>
          <p:cNvSpPr/>
          <p:nvPr/>
        </p:nvSpPr>
        <p:spPr>
          <a:xfrm>
            <a:off x="5105520" y="846000"/>
            <a:ext cx="2514600" cy="2807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range :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7"/>
          <p:cNvSpPr/>
          <p:nvPr/>
        </p:nvSpPr>
        <p:spPr>
          <a:xfrm>
            <a:off x="380880" y="609480"/>
            <a:ext cx="4343400" cy="70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 a,b,c,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tf(“Enter the range : “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nf(“%d”,&amp;r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=0,b=1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tf(“%d”,a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tf(“\n%d”,b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tf(“\n”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=0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=a+b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(c&lt;=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tf(“%d\n”,c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=b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=c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}while(c&lt;=r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1A67-D5A8-4921-A870-2D96BE574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 lo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533520" y="137160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(initialization; test condition; Increment/Dec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of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D5EE-7C21-489D-AEA5-36CDF5B76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 of C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219320" y="914400"/>
            <a:ext cx="6324480" cy="56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447920" y="1025640"/>
            <a:ext cx="6019560" cy="345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ATION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447920" y="1469880"/>
            <a:ext cx="6019560" cy="358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ROCESSOR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447920" y="1969920"/>
            <a:ext cx="6019560" cy="309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447920" y="2438280"/>
            <a:ext cx="601956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600200" y="2590920"/>
            <a:ext cx="57783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DECLARATION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1650960" y="3276720"/>
            <a:ext cx="5638680" cy="2895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tion p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able P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 program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dy of the subprogra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8322-E786-4111-87E0-C1EED49F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  //program to generate number from 1 to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,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"\nEnter the limit 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f("%d",&amp;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for(i=1;i&lt;=n;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printf(“%d\n”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3"/>
          <p:cNvSpPr/>
          <p:nvPr/>
        </p:nvSpPr>
        <p:spPr>
          <a:xfrm>
            <a:off x="4572000" y="2171880"/>
            <a:ext cx="2895480" cy="2849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limit 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311B-23B0-42DE-8DB7-534150788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  //program to calculate factorial of given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,fact=1,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"\nEnter the Number: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f("%d",&amp;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for(i=1;i&lt;=n;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fact =fact *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"\n The value of %d! is:%d",n,fac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3"/>
          <p:cNvSpPr/>
          <p:nvPr/>
        </p:nvSpPr>
        <p:spPr>
          <a:xfrm>
            <a:off x="4572000" y="2171880"/>
            <a:ext cx="2895480" cy="29098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umber: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3! is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3405-DAA7-41F1-B6B3-D287B9F9C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  //program to generate given multiplication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,tab,n,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"\nEnter the multiplication table: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f("%d",&amp;ta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"\nEnter the limit of multiplication table: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f("%d",&amp;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for(i=1;i&lt;=n;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res=i*ta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printf("\%d * %d : %d\n”,i,tab,re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"/>
          <p:cNvSpPr/>
          <p:nvPr/>
        </p:nvSpPr>
        <p:spPr>
          <a:xfrm>
            <a:off x="4648320" y="3200400"/>
            <a:ext cx="4190760" cy="40633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multiplication table :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the limit of multiplication table                                       :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* 2 :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* 2 :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* 2 :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* 2 :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5573-5CA4-4BA7-A94C-971786D62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program to calculate student marks &amp; average using for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n,s1,s2,s3,s4,s5,to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 av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Enter no of students : 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f(“%d”,&amp;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Enter marks of five subjects : \n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(i=1;i&lt;=n;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Enter student %d marks\n”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f(“%d%d%d%d%d”,&amp;s1,&amp;s2,&amp;s3,&amp;s4,&amp;s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=s1+s2+s3+s4+s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g=tot/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Total : %d\nAverage : %f”,tot,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"/>
          <p:cNvSpPr/>
          <p:nvPr/>
        </p:nvSpPr>
        <p:spPr>
          <a:xfrm>
            <a:off x="457200" y="460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2778-D2A0-4891-AB9D-163F17388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pri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atural number greater than one has not any other divisors except 1 and itself. In other word we can say which has only two divisors 1 and number itsel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 5. Their divisors are 1 and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E198-FD75-49F1-AEBC-8E5FF48EF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include&lt;stdio.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//program to check whether the given no is prime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 n, i, c = 0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tf("Enter a number :"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nf("%d", &amp;n);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 (i = 1; i &lt;= n; i++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(n % i == 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++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(c == 2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tf(“Given no is a Prime number"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tf(“Given no is not a Prime number"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tch(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"/>
          <p:cNvSpPr/>
          <p:nvPr/>
        </p:nvSpPr>
        <p:spPr>
          <a:xfrm>
            <a:off x="457200" y="-1062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 lo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3"/>
          <p:cNvSpPr/>
          <p:nvPr/>
        </p:nvSpPr>
        <p:spPr>
          <a:xfrm>
            <a:off x="4648320" y="1741320"/>
            <a:ext cx="3657600" cy="2489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 a number :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n no is a Prime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7167-E280-4C18-9C7B-359E58606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sted for  lo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6"/>
          <p:cNvSpPr/>
          <p:nvPr/>
        </p:nvSpPr>
        <p:spPr>
          <a:xfrm>
            <a:off x="533520" y="1371600"/>
            <a:ext cx="800100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(initi; cond; Inc/D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for (initi; cond; Inc/D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{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Body of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5CAA-747A-43DC-831B-0F434CD6B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  //program to generate numbers in triang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`,j,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"\nEnter the limit 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f("%d",&amp;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for(i=1;i&lt;=n;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for(j=1;j&lt;=i;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printf(“%d”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printf(“\n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sted for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3"/>
          <p:cNvSpPr/>
          <p:nvPr/>
        </p:nvSpPr>
        <p:spPr>
          <a:xfrm>
            <a:off x="4572000" y="1371600"/>
            <a:ext cx="2895480" cy="29098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limit 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5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519E-3D77-48F3-A2DC-3698364A7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30492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  //program to generate stars(*) in triang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,j,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"\nEnter the limit 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f("%d",&amp;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for(i=1;i&lt;=n;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for(j=1;j&lt;=i;j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printf(“*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printf(“\n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2"/>
          <p:cNvSpPr/>
          <p:nvPr/>
        </p:nvSpPr>
        <p:spPr>
          <a:xfrm>
            <a:off x="457200" y="460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sted for  loo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3"/>
          <p:cNvSpPr/>
          <p:nvPr/>
        </p:nvSpPr>
        <p:spPr>
          <a:xfrm>
            <a:off x="4572000" y="1371600"/>
            <a:ext cx="2895480" cy="29098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limit 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3ED4-65D4-4197-BE59-22F8C8BE7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D8FA-B829-4569-965F-2354098E4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tains the comment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rocessor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d to link library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Declaration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Global declaration section comes at the beginning of the program and they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visible to all parts of th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escribe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to be used within the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able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tains the valid stat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CB45-ED75-4A80-9F52-2A7C43721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apping without using third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main 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a,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rscr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f(" \nEnter the value of a: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f("%d",&amp;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f(" \nEnter the value of b: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nf("%d",&amp;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8AAF-FD0C-4604-A051-BCE3EEC5C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a+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a-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a-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 \nThe value of a is:%d"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 \nThe value of b is:%d",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ch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value of a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value of b: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a is: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b is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1768-9A91-4FFD-849C-ED802A3F9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adratic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&lt;math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ain 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,b,c,d,r1,r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rscr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 \nEnter the value of a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("%d",&amp;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 \nEnter the value of b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("%d",&amp;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 \nEnter the value of c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f("%d",&amp;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b*b-4*a*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7C19-E4F7-4AA9-8EAF-30F09CACC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(d&gt;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=(-b+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=(-b-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 \nThe roots are %d,%d",r1,r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 \nThe roots are imaginary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ch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FCFB-C745-45D7-B92C-0D30E279D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value of a: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value of b: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value of c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ots are imag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22E1-D1B1-4320-9322-32D670A23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C Pr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 program may have many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e and only one of the funct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UST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named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s the starting point for th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新細明體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d other functions in a program are divided into two section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eclaration s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tatement 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04A4-1597-46CE-AEBB-9AF447C89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" dur="1" fill="hold"/>
                                  <p:tgtEl>
                                    <p:spTgt spid="1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Preprocessor Dir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pecial instructions to the preprocessor that tells how to prepare the program for compi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E.g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cl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: tells the processor to include information from selected libraries known 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header f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e.g.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E0B6-68C4-452E-9444-4646EE1AE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Comments (Program document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compiler simply ignores comments when it translates the program into executabl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o identify a comments, C uses open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/*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nd closing  */  comment tok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F211-6C06-482C-B86B-32B04E388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Comment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ents can appear anywhere in a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ents are also found wherever it is necessary to explain a point about a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omment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annot be nes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in C i.e. you cannot have comments inside com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8908-EFA2-40F9-82AE-86EB6D6A9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-15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C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/* Example program in C*/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新細明體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#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clude &lt;stdio.h&gt;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新細明體"/>
              </a:rPr>
              <a:t>P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</a:rPr>
              <a:t>reprocessor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#include&lt;con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新細明體"/>
              </a:rPr>
              <a:t>Global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void main (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新細明體"/>
              </a:rPr>
              <a:t>Local decl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printf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Hello World! \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;    </a:t>
            </a:r>
            <a:r>
              <a:rPr b="0" i="1" lang="en-US" sz="2800" spc="-1" strike="noStrike">
                <a:solidFill>
                  <a:srgbClr val="ff0066"/>
                </a:solidFill>
                <a:latin typeface="Arial"/>
                <a:ea typeface="新細明體"/>
              </a:rPr>
              <a:t>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getch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utput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Hello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600200" y="220968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16B-0F65-4EB1-9358-483F5F27E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in learning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85800" y="3124080"/>
            <a:ext cx="1447920" cy="12193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467480" y="3124080"/>
            <a:ext cx="1447920" cy="12193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957920" y="3124080"/>
            <a:ext cx="1823760" cy="12193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2819520" y="3124080"/>
            <a:ext cx="1447560" cy="12193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2133720" y="3657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6781680" y="3657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4267080" y="3657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A6BB-AC53-4DAC-A215-82601FB86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To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0862-4F25-4703-A58B-AE22ECD83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rs are names given to various program elements such as variables, functions and arrays etc,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#define 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define a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N and a are user defined identif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4579-131B-4D74-B174-194173916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s for naming ident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irst character must be alphabetic or unders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Must consist only of alphabetic characters, digits, or undersc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Only the first 31 characters of an identifier are significant and are recognized by the compi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annot use 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keywor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reserved wor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e.g. main, include, printf &amp; scanf et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No space are allowed between the identifiers etc,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 is case sensitive, e.g. My_na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my_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94FA-C2F8-471D-87FD-2C4F45E5B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s of Valid and Invalid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2"/>
          <p:cNvGraphicFramePr/>
          <p:nvPr/>
        </p:nvGraphicFramePr>
        <p:xfrm>
          <a:off x="457200" y="1708200"/>
          <a:ext cx="8229600" cy="430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296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0885-FC7D-4831-A1AB-DCE344181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 is an identifier that is used to represent some specified type of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x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x is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9BF3-5F27-4E45-AF6B-C2A0EC33F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reserved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be used for anything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 etc,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73D5-07EA-473C-98B9-1B313D567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           register     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      typedef     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             Char          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         extern        vo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        return        Defaul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           union        G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         Const         size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       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         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         un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        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2FBC-643C-4289-835C-E8AF6704B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n entity whose value does not changes during the exec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x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3 is a co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D921-B139-42FB-BF39-29DD5D9CF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D8F9-E73E-4FE5-A78C-5CDD4CB73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3429000" y="1828800"/>
            <a:ext cx="2514600" cy="53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032520" y="3048120"/>
            <a:ext cx="251460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838080" y="3048120"/>
            <a:ext cx="251460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666880" y="4724280"/>
            <a:ext cx="1676520" cy="800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228600" y="4724280"/>
            <a:ext cx="1523880" cy="7621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7086600" y="4724280"/>
            <a:ext cx="1600200" cy="7621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"/>
          <p:cNvCxnSpPr>
            <a:stCxn id="212" idx="2"/>
            <a:endCxn id="214" idx="0"/>
          </p:cNvCxnSpPr>
          <p:nvPr/>
        </p:nvCxnSpPr>
        <p:spPr>
          <a:xfrm rot="5400000">
            <a:off x="3047400" y="1409400"/>
            <a:ext cx="68652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AutoShape 13"/>
          <p:cNvCxnSpPr>
            <a:stCxn id="212" idx="2"/>
            <a:endCxn id="213" idx="0"/>
          </p:cNvCxnSpPr>
          <p:nvPr/>
        </p:nvCxnSpPr>
        <p:spPr>
          <a:xfrm flipH="1" rot="16200000">
            <a:off x="5643720" y="1403280"/>
            <a:ext cx="686520" cy="260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AutoShape 14"/>
          <p:cNvCxnSpPr>
            <a:stCxn id="214" idx="2"/>
            <a:endCxn id="216" idx="0"/>
          </p:cNvCxnSpPr>
          <p:nvPr/>
        </p:nvCxnSpPr>
        <p:spPr>
          <a:xfrm rot="5400000">
            <a:off x="1009080" y="3638160"/>
            <a:ext cx="1067400" cy="1105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AutoShape 16"/>
          <p:cNvCxnSpPr>
            <a:stCxn id="214" idx="2"/>
            <a:endCxn id="215" idx="0"/>
          </p:cNvCxnSpPr>
          <p:nvPr/>
        </p:nvCxnSpPr>
        <p:spPr>
          <a:xfrm flipH="1" rot="16200000">
            <a:off x="2266920" y="3485520"/>
            <a:ext cx="1067400" cy="1410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2" name="Rectangle 7"/>
          <p:cNvSpPr/>
          <p:nvPr/>
        </p:nvSpPr>
        <p:spPr>
          <a:xfrm>
            <a:off x="4876920" y="4724280"/>
            <a:ext cx="1676160" cy="914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AutoShape 20"/>
          <p:cNvCxnSpPr>
            <a:stCxn id="213" idx="2"/>
            <a:endCxn id="222" idx="0"/>
          </p:cNvCxnSpPr>
          <p:nvPr/>
        </p:nvCxnSpPr>
        <p:spPr>
          <a:xfrm rot="5400000">
            <a:off x="5968440" y="3403440"/>
            <a:ext cx="1067400" cy="1575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AutoShape 21"/>
          <p:cNvCxnSpPr>
            <a:stCxn id="213" idx="2"/>
            <a:endCxn id="217" idx="0"/>
          </p:cNvCxnSpPr>
          <p:nvPr/>
        </p:nvCxnSpPr>
        <p:spPr>
          <a:xfrm flipH="1" rot="16200000">
            <a:off x="7053840" y="3891960"/>
            <a:ext cx="1067400" cy="597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5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A4B8-9C8F-4486-B4CD-C17ED5428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Character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3429000" y="1828800"/>
            <a:ext cx="2514600" cy="53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Character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032520" y="3048120"/>
            <a:ext cx="251460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838080" y="3048120"/>
            <a:ext cx="251460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2971800" y="4686480"/>
            <a:ext cx="167652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1879560" y="4724280"/>
            <a:ext cx="990720" cy="53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28600" y="4724280"/>
            <a:ext cx="1523880" cy="53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phab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654960" y="4724280"/>
            <a:ext cx="1904760" cy="7621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788000" y="4724280"/>
            <a:ext cx="114300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AutoShape 12"/>
          <p:cNvCxnSpPr>
            <a:stCxn id="65" idx="2"/>
            <a:endCxn id="67" idx="0"/>
          </p:cNvCxnSpPr>
          <p:nvPr/>
        </p:nvCxnSpPr>
        <p:spPr>
          <a:xfrm rot="5400000">
            <a:off x="3047400" y="1409400"/>
            <a:ext cx="68652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" name="AutoShape 13"/>
          <p:cNvCxnSpPr>
            <a:stCxn id="65" idx="2"/>
            <a:endCxn id="66" idx="0"/>
          </p:cNvCxnSpPr>
          <p:nvPr/>
        </p:nvCxnSpPr>
        <p:spPr>
          <a:xfrm flipH="1" rot="16200000">
            <a:off x="5643720" y="1403280"/>
            <a:ext cx="686520" cy="260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AutoShape 14"/>
          <p:cNvCxnSpPr>
            <a:stCxn id="67" idx="2"/>
            <a:endCxn id="70" idx="0"/>
          </p:cNvCxnSpPr>
          <p:nvPr/>
        </p:nvCxnSpPr>
        <p:spPr>
          <a:xfrm rot="5400000">
            <a:off x="1009080" y="3638160"/>
            <a:ext cx="1067400" cy="1105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AutoShape 15"/>
          <p:cNvCxnSpPr>
            <a:stCxn id="67" idx="2"/>
            <a:endCxn id="69" idx="0"/>
          </p:cNvCxnSpPr>
          <p:nvPr/>
        </p:nvCxnSpPr>
        <p:spPr>
          <a:xfrm flipH="1" rot="16200000">
            <a:off x="1701720" y="4050720"/>
            <a:ext cx="1067400" cy="280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AutoShape 16"/>
          <p:cNvCxnSpPr>
            <a:stCxn id="67" idx="2"/>
            <a:endCxn id="68" idx="0"/>
          </p:cNvCxnSpPr>
          <p:nvPr/>
        </p:nvCxnSpPr>
        <p:spPr>
          <a:xfrm flipH="1" rot="16200000">
            <a:off x="2438280" y="3314520"/>
            <a:ext cx="1029600" cy="1715040"/>
          </a:xfrm>
          <a:prstGeom prst="bentConnector3">
            <a:avLst>
              <a:gd name="adj1" fmla="val 499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AutoShape 17"/>
          <p:cNvCxnSpPr>
            <a:stCxn id="67" idx="2"/>
            <a:endCxn id="72" idx="0"/>
          </p:cNvCxnSpPr>
          <p:nvPr/>
        </p:nvCxnSpPr>
        <p:spPr>
          <a:xfrm flipH="1" rot="16200000">
            <a:off x="3193920" y="2558520"/>
            <a:ext cx="1067400" cy="3264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Line 18"/>
          <p:cNvSpPr/>
          <p:nvPr/>
        </p:nvSpPr>
        <p:spPr>
          <a:xfrm>
            <a:off x="7620120" y="3657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DECB-3632-4B41-9F21-4B7E73ED2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ger 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formed using a sequence of dig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0 to 9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0 to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0 to 9 ,A to 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10,75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C227-4B35-4951-9E9B-0C74947B6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s for defining Integer Con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ust have atleast one dig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mal point are not al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lank space or commas are allow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either positive or negative. Etc,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9472-1F97-497B-9737-942D19383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l 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formed using a sequence of digits but it contain decim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gth, height, price distance measured in real nu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2.5, 5.11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32AE-25DE-422F-9FC9-AD34B79B8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 con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ngle character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 constant is a single character they also represented with single digit or a single special symbol which is enclosed in single qu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g: ‘a’, ‘8’,’_’et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1965-D489-4629-9F8B-693FB2A9E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 con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ing 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constant are sequence of characters enclosed with in double qu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: “Hello” ,”444”,”a” etc,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98BF-1F56-41AA-8D48-4E8954FE0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perator is a symbol that specifies an operation to be performed on the ope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a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is an op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,b are ope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3E36-122A-42F9-8430-90163DE6A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06600" y="426960"/>
            <a:ext cx="613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Data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Data 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is the type of data that are going to  access within th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8A65-9D29-4053-8E21-AEDC65297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914400" y="111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038480" y="990720"/>
            <a:ext cx="18288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286000" y="2362320"/>
            <a:ext cx="18288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800600" y="2362320"/>
            <a:ext cx="18288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6781680" y="2362320"/>
            <a:ext cx="18288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ER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457200" y="3657600"/>
            <a:ext cx="167652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2"/>
          <p:cNvSpPr/>
          <p:nvPr/>
        </p:nvSpPr>
        <p:spPr>
          <a:xfrm>
            <a:off x="2286000" y="3657600"/>
            <a:ext cx="13716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"/>
          <p:cNvSpPr/>
          <p:nvPr/>
        </p:nvSpPr>
        <p:spPr>
          <a:xfrm>
            <a:off x="3809880" y="3657600"/>
            <a:ext cx="13716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4800600" y="4952880"/>
            <a:ext cx="18288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, Func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6781680" y="4952880"/>
            <a:ext cx="18288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, union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457200" y="4952880"/>
            <a:ext cx="13716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1905120" y="4952880"/>
            <a:ext cx="137160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i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, long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505320" y="5638680"/>
            <a:ext cx="13716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24"/>
          <p:cNvSpPr/>
          <p:nvPr/>
        </p:nvSpPr>
        <p:spPr>
          <a:xfrm>
            <a:off x="1143000" y="3276720"/>
            <a:ext cx="3276720" cy="144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26"/>
          <p:cNvCxnSpPr>
            <a:endCxn id="258" idx="0"/>
          </p:cNvCxnSpPr>
          <p:nvPr/>
        </p:nvCxnSpPr>
        <p:spPr>
          <a:xfrm flipH="1">
            <a:off x="3198600" y="1982880"/>
            <a:ext cx="3600" cy="38160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71" name="Straight Arrow Connector 28"/>
          <p:cNvCxnSpPr/>
          <p:nvPr/>
        </p:nvCxnSpPr>
        <p:spPr>
          <a:xfrm flipH="1">
            <a:off x="5331600" y="1677600"/>
            <a:ext cx="3960" cy="68652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72" name="Straight Arrow Connector 32"/>
          <p:cNvCxnSpPr/>
          <p:nvPr/>
        </p:nvCxnSpPr>
        <p:spPr>
          <a:xfrm flipH="1">
            <a:off x="7619760" y="1980720"/>
            <a:ext cx="2160" cy="38196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73" name="Straight Arrow Connector 36"/>
          <p:cNvCxnSpPr/>
          <p:nvPr/>
        </p:nvCxnSpPr>
        <p:spPr>
          <a:xfrm flipH="1">
            <a:off x="1141200" y="3278160"/>
            <a:ext cx="3600" cy="38160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74" name="Straight Arrow Connector 37"/>
          <p:cNvCxnSpPr/>
          <p:nvPr/>
        </p:nvCxnSpPr>
        <p:spPr>
          <a:xfrm flipH="1">
            <a:off x="2893680" y="3276720"/>
            <a:ext cx="2160" cy="38160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75" name="Straight Arrow Connector 39"/>
          <p:cNvCxnSpPr/>
          <p:nvPr/>
        </p:nvCxnSpPr>
        <p:spPr>
          <a:xfrm flipH="1">
            <a:off x="4493880" y="3276720"/>
            <a:ext cx="2160" cy="38160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76" name="Straight Arrow Connector 40"/>
          <p:cNvCxnSpPr>
            <a:endCxn id="266" idx="0"/>
          </p:cNvCxnSpPr>
          <p:nvPr/>
        </p:nvCxnSpPr>
        <p:spPr>
          <a:xfrm flipH="1">
            <a:off x="1142640" y="4191120"/>
            <a:ext cx="2160" cy="76248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77" name="Straight Arrow Connector 42"/>
          <p:cNvCxnSpPr/>
          <p:nvPr/>
        </p:nvCxnSpPr>
        <p:spPr>
          <a:xfrm flipH="1">
            <a:off x="2893680" y="4191120"/>
            <a:ext cx="2160" cy="76248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78" name="Straight Arrow Connector 44"/>
          <p:cNvCxnSpPr>
            <a:endCxn id="268" idx="0"/>
          </p:cNvCxnSpPr>
          <p:nvPr/>
        </p:nvCxnSpPr>
        <p:spPr>
          <a:xfrm flipH="1">
            <a:off x="4188600" y="4344480"/>
            <a:ext cx="3960" cy="129636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79" name="Straight Arrow Connector 46"/>
          <p:cNvCxnSpPr/>
          <p:nvPr/>
        </p:nvCxnSpPr>
        <p:spPr>
          <a:xfrm>
            <a:off x="5790240" y="3047760"/>
            <a:ext cx="76680" cy="190548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280" name="Straight Arrow Connector 49"/>
          <p:cNvCxnSpPr/>
          <p:nvPr/>
        </p:nvCxnSpPr>
        <p:spPr>
          <a:xfrm>
            <a:off x="7619040" y="3047760"/>
            <a:ext cx="76680" cy="190548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281" name="Straight Connector 50"/>
          <p:cNvSpPr/>
          <p:nvPr/>
        </p:nvSpPr>
        <p:spPr>
          <a:xfrm>
            <a:off x="3200400" y="1981080"/>
            <a:ext cx="4419720" cy="18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DDE1-90C9-4887-9517-83AC47CB2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3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77240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te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number without a fraction part : integral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C supports three different sizes of the integer data typ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7B62-0F1E-4F12-A6F2-CC7C660ED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22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Floa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A floating-point type is a number with a fractional part, e.g. 56.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loating point numbers are stored u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4 By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long dou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29FD-698A-4260-837B-05BA94182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Character Set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Character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d to construct the statements in the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able Character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haracters are employed at the time of execution i.e. they have effects only when the program is being exec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725D-6550-465E-BFC6-A1750D8F7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新細明體"/>
              </a:rPr>
              <a:t>charac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are generally stored using 8 bits(1 Byte) of the internal stor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380880" y="2971800"/>
            <a:ext cx="8344080" cy="971640"/>
            <a:chOff x="380880" y="2971800"/>
            <a:chExt cx="8344080" cy="971640"/>
          </a:xfrm>
        </p:grpSpPr>
        <p:sp>
          <p:nvSpPr>
            <p:cNvPr id="294" name="Text Box 4"/>
            <p:cNvSpPr/>
            <p:nvPr/>
          </p:nvSpPr>
          <p:spPr>
            <a:xfrm>
              <a:off x="380880" y="2971800"/>
              <a:ext cx="834408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2001"/>
                </a:spcBef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5"/>
            <p:cNvGrpSpPr/>
            <p:nvPr/>
          </p:nvGrpSpPr>
          <p:grpSpPr>
            <a:xfrm>
              <a:off x="799920" y="3471120"/>
              <a:ext cx="7829640" cy="472320"/>
              <a:chOff x="799920" y="3471120"/>
              <a:chExt cx="7829640" cy="472320"/>
            </a:xfrm>
          </p:grpSpPr>
          <p:sp>
            <p:nvSpPr>
              <p:cNvPr id="296" name="Line 6"/>
              <p:cNvSpPr/>
              <p:nvPr/>
            </p:nvSpPr>
            <p:spPr>
              <a:xfrm>
                <a:off x="2705040" y="3471120"/>
                <a:ext cx="0" cy="47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7"/>
              <p:cNvSpPr/>
              <p:nvPr/>
            </p:nvSpPr>
            <p:spPr>
              <a:xfrm>
                <a:off x="799920" y="3729240"/>
                <a:ext cx="7829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3B8C-D85B-4D55-BDC9-166F8F511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v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void type has no values and no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Both the set of values and the set of operations are emp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36F0-CEDE-4BC5-A635-316983C6F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2600" y="76320"/>
            <a:ext cx="6858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Variable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685800" y="1828800"/>
            <a:ext cx="7771680" cy="4722840"/>
            <a:chOff x="685800" y="1828800"/>
            <a:chExt cx="7771680" cy="4722840"/>
          </a:xfrm>
        </p:grpSpPr>
        <p:sp>
          <p:nvSpPr>
            <p:cNvPr id="306" name="Line 5"/>
            <p:cNvSpPr/>
            <p:nvPr/>
          </p:nvSpPr>
          <p:spPr>
            <a:xfrm>
              <a:off x="8457480" y="1828800"/>
              <a:ext cx="0" cy="1348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6"/>
            <p:cNvSpPr/>
            <p:nvPr/>
          </p:nvSpPr>
          <p:spPr>
            <a:xfrm>
              <a:off x="685800" y="2165040"/>
              <a:ext cx="4238640" cy="4386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4"/>
          <p:cNvSpPr/>
          <p:nvPr/>
        </p:nvSpPr>
        <p:spPr>
          <a:xfrm>
            <a:off x="6858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o create a variable, you must specif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n 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dent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a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新細明體"/>
              </a:rPr>
              <a:t>int a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int a,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a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b=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t a=10,b=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974F-B8E6-4D3A-B3AB-0EC72B0FB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82600" y="76320"/>
            <a:ext cx="6858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Variable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3"/>
          <p:cNvGrpSpPr/>
          <p:nvPr/>
        </p:nvGrpSpPr>
        <p:grpSpPr>
          <a:xfrm>
            <a:off x="685800" y="1828800"/>
            <a:ext cx="7771680" cy="4722840"/>
            <a:chOff x="685800" y="1828800"/>
            <a:chExt cx="7771680" cy="4722840"/>
          </a:xfrm>
        </p:grpSpPr>
        <p:sp>
          <p:nvSpPr>
            <p:cNvPr id="313" name="Line 5"/>
            <p:cNvSpPr/>
            <p:nvPr/>
          </p:nvSpPr>
          <p:spPr>
            <a:xfrm>
              <a:off x="8457480" y="1828800"/>
              <a:ext cx="0" cy="1348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6"/>
            <p:cNvSpPr/>
            <p:nvPr/>
          </p:nvSpPr>
          <p:spPr>
            <a:xfrm>
              <a:off x="685800" y="2165040"/>
              <a:ext cx="4238640" cy="4386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4"/>
          <p:cNvSpPr/>
          <p:nvPr/>
        </p:nvSpPr>
        <p:spPr>
          <a:xfrm>
            <a:off x="6858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o create a variable, you must specif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n 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dent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floa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a=10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新細明體"/>
              </a:rPr>
              <a:t>float a=10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新細明體"/>
              </a:rPr>
              <a:t>    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float a,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a=10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b=5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loat a=10.5,b=5.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C6D6-C53B-4BD5-B0EB-90F4C8518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82600" y="76320"/>
            <a:ext cx="6858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Variable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685800" y="1828800"/>
            <a:ext cx="7771680" cy="4722840"/>
            <a:chOff x="685800" y="1828800"/>
            <a:chExt cx="7771680" cy="4722840"/>
          </a:xfrm>
        </p:grpSpPr>
        <p:sp>
          <p:nvSpPr>
            <p:cNvPr id="320" name="Line 5"/>
            <p:cNvSpPr/>
            <p:nvPr/>
          </p:nvSpPr>
          <p:spPr>
            <a:xfrm>
              <a:off x="8457480" y="1828800"/>
              <a:ext cx="0" cy="1348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6"/>
            <p:cNvSpPr/>
            <p:nvPr/>
          </p:nvSpPr>
          <p:spPr>
            <a:xfrm>
              <a:off x="685800" y="2165040"/>
              <a:ext cx="4238640" cy="4386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Rectangle 4"/>
          <p:cNvSpPr/>
          <p:nvPr/>
        </p:nvSpPr>
        <p:spPr>
          <a:xfrm>
            <a:off x="685800" y="762120"/>
            <a:ext cx="77724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o create a variable, you must specif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n 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dent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char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a=‘x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新細明體"/>
              </a:rPr>
              <a:t>char a=‘x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char a,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a=‘x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新細明體"/>
              </a:rPr>
              <a:t>b=‘y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char a=‘x’,b=‘y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5869-D812-4A24-AACA-55FCDB9CE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2600" y="76320"/>
            <a:ext cx="6858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Variable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685800" y="1828800"/>
            <a:ext cx="7771680" cy="4722840"/>
            <a:chOff x="685800" y="1828800"/>
            <a:chExt cx="7771680" cy="4722840"/>
          </a:xfrm>
        </p:grpSpPr>
        <p:sp>
          <p:nvSpPr>
            <p:cNvPr id="327" name="Line 5"/>
            <p:cNvSpPr/>
            <p:nvPr/>
          </p:nvSpPr>
          <p:spPr>
            <a:xfrm>
              <a:off x="8457480" y="1828800"/>
              <a:ext cx="0" cy="1348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685800" y="2165040"/>
              <a:ext cx="4238640" cy="4386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Rectangle 4"/>
          <p:cNvSpPr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o create a variable, you must specif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d then 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dent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char a[6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新細明體"/>
              </a:rPr>
              <a:t>a=“NAFEE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新細明體"/>
              </a:rPr>
              <a:t>char a[6]=“NAFEE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presentation of strin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590920" y="4419720"/>
            <a:ext cx="60948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200400" y="4419720"/>
            <a:ext cx="60948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3809880" y="4419720"/>
            <a:ext cx="60984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4419720" y="4419720"/>
            <a:ext cx="60948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5029200" y="4419720"/>
            <a:ext cx="60948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5638680" y="4419720"/>
            <a:ext cx="609840" cy="6858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5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13AC-38F8-4986-83BA-AEB2BF788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ire Data types in c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28600" y="1066680"/>
          <a:ext cx="8534520" cy="579132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type       Size(bytes)          Range                    Format 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                         1            128 to 127                                  %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2319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igned char          1               0 to 255                                  %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rt or int                2        -32,768 to 32,767                          %i or %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igned int              2              0 to 65535                               %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                         4      -2147483648 to 2147483647          %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igned long          4            0 to 4294967295                        %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                          4         3.4 e-38 to 3.4 e+38                      %f or %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                       8         1.7 e-308 to 1.7 e+308                   %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Double              10      3.4 e-4932 to 1.1 e+4932                %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F0FD-45C1-4EB6-90A0-76EE7A774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C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stdio.h&gt;//program to display given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 a=1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at b=10.88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 c=‘$’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r d[6]=“Nafees”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“Integer value : %d\n”,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“Float value : %f\n”,b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“Character : %c\n”,c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tf(“String : %s”,d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3"/>
          <p:cNvSpPr/>
          <p:nvPr/>
        </p:nvSpPr>
        <p:spPr>
          <a:xfrm>
            <a:off x="5562720" y="1905120"/>
            <a:ext cx="2819160" cy="167940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value  :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 value     : 10.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       :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             : Na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DC31-3833-4FF3-88A5-F5C95FC6B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C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&lt;stdio.h&gt;//program to display given data from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a;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 b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d[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Enter a integer value : “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f(“%d”,&amp;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Enter a float value : “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f(“%f”,&amp;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Enter a character : “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f(“%c”,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Enter a string : “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f(“%s”,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5334120" y="3200400"/>
            <a:ext cx="3047760" cy="28990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 integer value :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 float value : 5.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 character :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 string : Na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value  :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 value     : 5.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       :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             : Na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4"/>
          <p:cNvSpPr/>
          <p:nvPr/>
        </p:nvSpPr>
        <p:spPr>
          <a:xfrm>
            <a:off x="4572000" y="1219320"/>
            <a:ext cx="38862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Integer value : %d\n”,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Float value : %f\n”,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Character : %c\n”,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(“String : %s”,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2843-01DF-4A61-8363-090B3E42B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thmetic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hand assignment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 or decrement operator(un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wise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FF7E-52CD-476D-A679-3A22216F0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 Character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1600200"/>
          <a:ext cx="8153280" cy="366228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o z ,A to 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i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to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 Charac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 @ # $ % ^ &amp; * ( ) _ - + = \ | { } [ ] etc,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Sp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nk Space ,Horizontal tab, New line, Vertical tab etc,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59D0-5952-4327-A734-B50DE0C8E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ithmetic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to carry ou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ithmetic oper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565360" y="2743200"/>
          <a:ext cx="4064040" cy="2840040"/>
        </p:xfrm>
        <a:graphic>
          <a:graphicData uri="http://schemas.openxmlformats.org/drawingml/2006/table">
            <a:tbl>
              <a:tblPr/>
              <a:tblGrid>
                <a:gridCol w="2133720"/>
                <a:gridCol w="1930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MAI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DA1B-F7A0-480F-8444-E0A3D5146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74120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45684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&lt;stdio.h&gt;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// Header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ain ( )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/* main is the starting of every c program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=5,b=2;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//Loc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rscr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Addition                    : %d\n”,(a+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Subtraction               : %d\n”,(a-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Multiplication            : %d\n”,(a*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Division                    : %d\n”,(a/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Modulus(remainder): %d”,(a%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ch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6172200" y="2590920"/>
            <a:ext cx="2666880" cy="22892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                :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raction           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ication        :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: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us(remainder)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83AF-3BC1-45A5-B902-8C602375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vision operator on Differ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066680" y="2743200"/>
          <a:ext cx="6782040" cy="2590920"/>
        </p:xfrm>
        <a:graphic>
          <a:graphicData uri="http://schemas.openxmlformats.org/drawingml/2006/table">
            <a:tbl>
              <a:tblPr/>
              <a:tblGrid>
                <a:gridCol w="2260800"/>
                <a:gridCol w="1701720"/>
                <a:gridCol w="2819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/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    = 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/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.0 =  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/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/2 =  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/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/2.0 =  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099F-BB15-44F2-AB91-6B1C1F7E9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onal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operands and returns 1 if true else return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523880" y="2849400"/>
          <a:ext cx="6096240" cy="25956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E67B-C9AD-470C-9DD9-E6A3116C1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al Operat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\n5!=3:%d”,(5!=3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\n5&lt;=3:%d”,(5&lt;=3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\n5&gt;=3:%d”,(5&gt;=3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\n5&lt;7  :%d”,(5&lt;7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\n5&gt;4  :%d”,(5&gt;4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3"/>
          <p:cNvSpPr/>
          <p:nvPr/>
        </p:nvSpPr>
        <p:spPr>
          <a:xfrm>
            <a:off x="5562720" y="2590920"/>
            <a:ext cx="2666880" cy="19843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!=3                     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&lt;=3                     :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&gt;=3                    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&lt;7                      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&gt;4                      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3D08-B133-4D8C-9622-FEFAD43D1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to perform logica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523880" y="2590920"/>
          <a:ext cx="6096240" cy="14634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BEBF-3779-4F25-BC03-84DAFBAB8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41204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main 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rscr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\n(5&lt;=8)&amp;&amp;(4&gt;=2):%d”,((5&lt;=8)&amp;&amp;(4&gt;=2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\n(5&gt;=3)||(6&lt;4):%d”,((5&gt;=3)||(6&lt;4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\n!(7==7):%d”,!(7==7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ch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5181480" y="3873600"/>
            <a:ext cx="3048120" cy="13744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&lt;=8)&amp;&amp;(4&gt;=2)  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&gt;=3)||(6&lt;4)        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(7==7)                   :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2A9A-B347-4E99-8B70-28A4F98E2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ign a value or expres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 to a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a =10.(assignment operator ‘=‘ assigns value 10 to variable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b + c   etc,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F778-AE94-420A-87AF-4CD4E3F7C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hand Assignment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D:\Ameen\assignment.PNG"/>
          <p:cNvPicPr/>
          <p:nvPr/>
        </p:nvPicPr>
        <p:blipFill>
          <a:blip r:embed="rId1"/>
          <a:stretch/>
        </p:blipFill>
        <p:spPr>
          <a:xfrm>
            <a:off x="304920" y="1928880"/>
            <a:ext cx="8456400" cy="332892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EE5C-3808-4B42-BDAC-EF4895C53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 &amp; Decrement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523880" y="944640"/>
          <a:ext cx="6096240" cy="11127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rement 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ment 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1523880" y="2590920"/>
          <a:ext cx="6096240" cy="1558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 Inc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 Inc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a=1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 value of a is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a=1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 value of a is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523880" y="4724280"/>
          <a:ext cx="6096240" cy="1559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 dec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 dec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a=1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 value of a is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 a=10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 value of a is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89A7-1197-4F87-AD34-F5BE25795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r d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colon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ostrop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otation ma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amation ma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b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|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Sla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lde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co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lar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mar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AC84-5D6F-4501-B30D-1C80828C4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 &amp; Decrement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 a,b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ntf(“Enter a &amp; b value : \n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canf(“%d%d”,&amp;a,&amp;b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ntf(“Value of a &amp; b before increment : %d    %d\n”,a,b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ntf(“Value of a &amp; b after increment : %d    %d\n”,a++,b++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ntf(“Value of a &amp; b after decrement : %d    %d\n”,a--,b—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ED73-2FD2-4507-B31B-2A6BEF38A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&amp; Decrement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133360" y="1066320"/>
            <a:ext cx="4724280" cy="38455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a &amp; b val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a &amp; b before increment : 6  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a &amp; b after increment    : 7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a &amp; b after decrement    : 5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A63A-4EA0-45C6-83C7-A66BC75B3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Operator (or) Ternary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to checks the condition and execute the statement depending on th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C = a &gt; b ? a: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F780-7720-4DF7-9804-E398A8C84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mpl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&lt;stdio.h&gt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oid main ( 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 a=5,b=8,c;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rscr( 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 = a&gt;b?a:b;    //Conditional operat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ntf(" \n The Larger Value is %d",c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ch( 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3581280" y="1600200"/>
            <a:ext cx="2667240" cy="106956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r Value is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3E3D-656D-423D-A6D8-7F1C67F94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r Value is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2743200" y="2971800"/>
            <a:ext cx="2666880" cy="106956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r Value is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2475-D540-4DDA-BB24-9C0095C90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Op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 operator ( ,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int a,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B976-B4C0-460A-9CF9-3C3D8143E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pression represent data item such as variable, constant are interconnected using op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1371600" y="4038480"/>
          <a:ext cx="5867280" cy="19749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Ex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b +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+ b +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b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*a + b*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B1C0-B751-4440-9DB5-F9CD5223F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371600" y="2895480"/>
          <a:ext cx="6248520" cy="2565360"/>
        </p:xfrm>
        <a:graphic>
          <a:graphicData uri="http://schemas.openxmlformats.org/drawingml/2006/table">
            <a:tbl>
              <a:tblPr/>
              <a:tblGrid>
                <a:gridCol w="3124080"/>
                <a:gridCol w="312444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ed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, / ,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,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BE35-B5B8-4017-98FD-98F9EBFFC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ng the type of an expression from one type to another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:  x = (int)10.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DC2F-D698-4EFD-9A87-7A8D7AC2B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mple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 main 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rscr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=(int)10.4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f("\nOutput is:%d",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ch(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is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753E-DA72-48E3-B903-D7917D431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58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ersand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t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erisk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r th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h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nt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92F5-67EC-4F78-A796-FFBCF3A84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put/Output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429000" y="1676520"/>
            <a:ext cx="251460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/Out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6032520" y="3048120"/>
            <a:ext cx="251460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forma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838080" y="3048120"/>
            <a:ext cx="251460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2666880" y="4724280"/>
            <a:ext cx="1676520" cy="17528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f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228600" y="4724280"/>
            <a:ext cx="1523880" cy="1828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f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AutoShape 12"/>
          <p:cNvCxnSpPr>
            <a:stCxn id="452" idx="2"/>
            <a:endCxn id="454" idx="0"/>
          </p:cNvCxnSpPr>
          <p:nvPr/>
        </p:nvCxnSpPr>
        <p:spPr>
          <a:xfrm rot="5400000">
            <a:off x="3047400" y="1409400"/>
            <a:ext cx="68652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AutoShape 13"/>
          <p:cNvCxnSpPr>
            <a:stCxn id="452" idx="2"/>
            <a:endCxn id="453" idx="0"/>
          </p:cNvCxnSpPr>
          <p:nvPr/>
        </p:nvCxnSpPr>
        <p:spPr>
          <a:xfrm flipH="1" rot="16200000">
            <a:off x="5643720" y="1403280"/>
            <a:ext cx="686520" cy="260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AutoShape 14"/>
          <p:cNvCxnSpPr>
            <a:stCxn id="454" idx="2"/>
            <a:endCxn id="456" idx="0"/>
          </p:cNvCxnSpPr>
          <p:nvPr/>
        </p:nvCxnSpPr>
        <p:spPr>
          <a:xfrm rot="5400000">
            <a:off x="1009080" y="3638160"/>
            <a:ext cx="1067400" cy="1105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AutoShape 16"/>
          <p:cNvCxnSpPr>
            <a:stCxn id="454" idx="2"/>
            <a:endCxn id="455" idx="0"/>
          </p:cNvCxnSpPr>
          <p:nvPr/>
        </p:nvCxnSpPr>
        <p:spPr>
          <a:xfrm flipH="1" rot="16200000">
            <a:off x="2266920" y="3485520"/>
            <a:ext cx="1067400" cy="1410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AutoShape 20"/>
          <p:cNvCxnSpPr>
            <a:stCxn id="453" idx="2"/>
          </p:cNvCxnSpPr>
          <p:nvPr/>
        </p:nvCxnSpPr>
        <p:spPr>
          <a:xfrm rot="5400000">
            <a:off x="5968440" y="3403440"/>
            <a:ext cx="1067400" cy="1575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AutoShape 21"/>
          <p:cNvCxnSpPr>
            <a:stCxn id="453" idx="2"/>
          </p:cNvCxnSpPr>
          <p:nvPr/>
        </p:nvCxnSpPr>
        <p:spPr>
          <a:xfrm flipH="1" rot="16200000">
            <a:off x="7053840" y="3891960"/>
            <a:ext cx="1067400" cy="597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Rectangle 9"/>
          <p:cNvSpPr/>
          <p:nvPr/>
        </p:nvSpPr>
        <p:spPr>
          <a:xfrm>
            <a:off x="4952880" y="4743360"/>
            <a:ext cx="1524240" cy="1886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cha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ch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7134120" y="4743360"/>
            <a:ext cx="1524240" cy="18860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cha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B246-D7A3-4D5F-92FA-4A9B5D3DC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Formatted Input/Outpu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C uses two functions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ormatted input and out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ormatted inp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: reads formatted data from the key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ormatted outp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: writes formatted data to the moni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4A96-4FF1-4825-9FC6-0054D5A98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4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1046520" y="1127520"/>
            <a:ext cx="71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Format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Input and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364600" cy="3521160"/>
          </a:xfrm>
          <a:prstGeom prst="rect">
            <a:avLst/>
          </a:prstGeom>
          <a:ln w="0">
            <a:noFill/>
          </a:ln>
        </p:spPr>
      </p:pic>
      <p:sp>
        <p:nvSpPr>
          <p:cNvPr id="4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E725-4CA6-494D-A692-4865486C0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Standard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he standard output file is the moni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Like the keyboard, it i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When you need to display data that is not text, it must be converted into to the text before it is written to the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B1CE-1164-4497-A2A9-44CC231DB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4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Format of printf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3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095880" cy="5334120"/>
          </a:xfrm>
          <a:prstGeom prst="rect">
            <a:avLst/>
          </a:prstGeom>
          <a:ln w="0">
            <a:noFill/>
          </a:ln>
        </p:spPr>
      </p:pic>
      <p:sp>
        <p:nvSpPr>
          <p:cNvPr id="4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344E-E00D-408A-B62B-A50AE0A67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Formatted Input 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scan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3"/>
          <p:cNvGrpSpPr/>
          <p:nvPr/>
        </p:nvGrpSpPr>
        <p:grpSpPr>
          <a:xfrm>
            <a:off x="685800" y="2000160"/>
            <a:ext cx="7771680" cy="4488840"/>
            <a:chOff x="685800" y="2000160"/>
            <a:chExt cx="7771680" cy="4488840"/>
          </a:xfrm>
        </p:grpSpPr>
        <p:grpSp>
          <p:nvGrpSpPr>
            <p:cNvPr id="485" name="Group 5"/>
            <p:cNvGrpSpPr/>
            <p:nvPr/>
          </p:nvGrpSpPr>
          <p:grpSpPr>
            <a:xfrm>
              <a:off x="685800" y="2000160"/>
              <a:ext cx="7771680" cy="4488840"/>
              <a:chOff x="685800" y="2000160"/>
              <a:chExt cx="7771680" cy="4488840"/>
            </a:xfrm>
          </p:grpSpPr>
          <p:sp>
            <p:nvSpPr>
              <p:cNvPr id="486" name="Line 6"/>
              <p:cNvSpPr/>
              <p:nvPr/>
            </p:nvSpPr>
            <p:spPr>
              <a:xfrm>
                <a:off x="3323520" y="2000160"/>
                <a:ext cx="0" cy="4296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7"/>
              <p:cNvSpPr/>
              <p:nvPr/>
            </p:nvSpPr>
            <p:spPr>
              <a:xfrm>
                <a:off x="6269400" y="2000160"/>
                <a:ext cx="0" cy="4296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8"/>
              <p:cNvSpPr/>
              <p:nvPr/>
            </p:nvSpPr>
            <p:spPr>
              <a:xfrm>
                <a:off x="685800" y="6489000"/>
                <a:ext cx="3507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9"/>
              <p:cNvSpPr/>
              <p:nvPr/>
            </p:nvSpPr>
            <p:spPr>
              <a:xfrm>
                <a:off x="4922640" y="6489000"/>
                <a:ext cx="353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0" name="Rectangle 4"/>
          <p:cNvSpPr/>
          <p:nvPr/>
        </p:nvSpPr>
        <p:spPr>
          <a:xfrm>
            <a:off x="685800" y="200016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standard formatted input function in C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(scan format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 consists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format string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n address list that identifies where data are to be placed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canf ( format string,  address list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%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.%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..%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, &amp;a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.&amp;i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..,&amp;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2114-3F11-4FA5-A718-E4844D7B8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ooter Placeholder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Format of scanf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01000" cy="543060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E7E8-A444-4A18-8D5F-41FD077F7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 Test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to test the character taken from the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lpha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digit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lower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upper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ower(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pper(ch) etc,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CF57-76E4-4FA2-986D-41DF90465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char()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&lt;ctype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("enter the character: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getcha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43C7-A7FE-438E-819A-16693DB64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(islower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char(toupper(x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char(tolower(x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character 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2CFA-CF96-4DD2-B531-A43CD9C86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table Character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6781680" cy="3859200"/>
        </p:xfrm>
        <a:graphic>
          <a:graphicData uri="http://schemas.openxmlformats.org/drawingml/2006/table">
            <a:tbl>
              <a:tblPr/>
              <a:tblGrid>
                <a:gridCol w="3390840"/>
                <a:gridCol w="339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pe Seq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izontal 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tical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4969-9020-4E42-91FF-8BAF0799A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c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&lt;ctype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("enter the character: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getc(stdi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7FA8-F012-48A8-8BDD-00149B9B9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(islower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c(toupper(x),stdou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c(tolower(x),stdou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 the character: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EC68-14A2-48C4-A619-0B4364B2C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s()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&lt;con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 c[80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("Input a string: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C21B-4A6F-4D86-94C4-31B4D4F14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("The string is: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s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a string:qw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ing is:qw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BF23-4D76-4B53-8DE7-2C951123D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ch()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d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 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("\nInput a character: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getch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6352-2C72-4F87-8AD6-45B134991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f("\nCharacter is: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ch(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ch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a character :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 :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FB52-83D6-4B87-B367-4C9755AB7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CONTRO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upon the sequence of the execution of statements, the control structures are categorized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ich instructions are executed in sequ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ich instruction are executed based on the result of some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hich instruction are executed repeate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8647-3522-4282-9489-2CE6EA90D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quential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lows the program to flow in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6"/>
          <p:cNvSpPr/>
          <p:nvPr/>
        </p:nvSpPr>
        <p:spPr>
          <a:xfrm>
            <a:off x="4191120" y="1752480"/>
            <a:ext cx="1600200" cy="4572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14"/>
          <p:cNvSpPr/>
          <p:nvPr/>
        </p:nvSpPr>
        <p:spPr>
          <a:xfrm>
            <a:off x="4038480" y="2590920"/>
            <a:ext cx="198144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4"/>
          <p:cNvSpPr/>
          <p:nvPr/>
        </p:nvSpPr>
        <p:spPr>
          <a:xfrm>
            <a:off x="4038480" y="3657600"/>
            <a:ext cx="198144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4"/>
          <p:cNvSpPr/>
          <p:nvPr/>
        </p:nvSpPr>
        <p:spPr>
          <a:xfrm>
            <a:off x="4038480" y="4724280"/>
            <a:ext cx="1981440" cy="6098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16"/>
          <p:cNvSpPr/>
          <p:nvPr/>
        </p:nvSpPr>
        <p:spPr>
          <a:xfrm>
            <a:off x="4191120" y="5791320"/>
            <a:ext cx="1600200" cy="4572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0"/>
          <p:cNvSpPr/>
          <p:nvPr/>
        </p:nvSpPr>
        <p:spPr>
          <a:xfrm>
            <a:off x="5029200" y="2209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0"/>
          <p:cNvSpPr/>
          <p:nvPr/>
        </p:nvSpPr>
        <p:spPr>
          <a:xfrm>
            <a:off x="5029200" y="32004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20"/>
          <p:cNvSpPr/>
          <p:nvPr/>
        </p:nvSpPr>
        <p:spPr>
          <a:xfrm>
            <a:off x="5029200" y="43434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5029200" y="5334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68A3-AFC5-4CD4-BBE8-099DA7CD7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ON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lows the program to make a choice from alternative path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provide the following selection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… els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if … els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B6CF-32B2-4C7C-8088-8300E656E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f (condition is tr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"/>
          <p:cNvSpPr/>
          <p:nvPr/>
        </p:nvSpPr>
        <p:spPr>
          <a:xfrm>
            <a:off x="6324480" y="2585880"/>
            <a:ext cx="1981440" cy="182880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6"/>
          <p:cNvSpPr/>
          <p:nvPr/>
        </p:nvSpPr>
        <p:spPr>
          <a:xfrm>
            <a:off x="7086600" y="5481720"/>
            <a:ext cx="457200" cy="457200"/>
          </a:xfrm>
          <a:prstGeom prst="flowChartConnec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7315200" y="59389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73152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5486400" y="2967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AutoShape 17"/>
          <p:cNvCxnSpPr/>
          <p:nvPr/>
        </p:nvCxnSpPr>
        <p:spPr>
          <a:xfrm flipH="1" rot="16200000">
            <a:off x="5675760" y="4300200"/>
            <a:ext cx="839160" cy="1981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AutoShape 18"/>
          <p:cNvCxnSpPr>
            <a:stCxn id="554" idx="1"/>
          </p:cNvCxnSpPr>
          <p:nvPr/>
        </p:nvCxnSpPr>
        <p:spPr>
          <a:xfrm flipV="1" rot="10800000">
            <a:off x="5104800" y="3499200"/>
            <a:ext cx="1219680" cy="762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1" name="Line 19"/>
          <p:cNvSpPr/>
          <p:nvPr/>
        </p:nvSpPr>
        <p:spPr>
          <a:xfrm>
            <a:off x="7315200" y="44146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0"/>
          <p:cNvSpPr/>
          <p:nvPr/>
        </p:nvSpPr>
        <p:spPr>
          <a:xfrm>
            <a:off x="7315200" y="2209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4114800" y="4267080"/>
            <a:ext cx="1981080" cy="6098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E4C2-611F-4A63-BE06-86DAF6F35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To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mallest element in the C language is the to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be a single character or a sequence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7C24-6E39-4A25-A5AB-FE36FE62C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…else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f (condition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 stat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lse stat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5410080" y="1976400"/>
            <a:ext cx="1981440" cy="182880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6172200" y="4871880"/>
            <a:ext cx="457200" cy="457200"/>
          </a:xfrm>
          <a:prstGeom prst="flowChartConnec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7"/>
          <p:cNvSpPr/>
          <p:nvPr/>
        </p:nvSpPr>
        <p:spPr>
          <a:xfrm>
            <a:off x="6400800" y="53290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4572000" y="235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2" name="AutoShape 10"/>
          <p:cNvCxnSpPr>
            <a:stCxn id="568" idx="1"/>
          </p:cNvCxnSpPr>
          <p:nvPr/>
        </p:nvCxnSpPr>
        <p:spPr>
          <a:xfrm flipV="1" rot="10800000">
            <a:off x="4761720" y="2889720"/>
            <a:ext cx="648360" cy="762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Line 11"/>
          <p:cNvSpPr/>
          <p:nvPr/>
        </p:nvSpPr>
        <p:spPr>
          <a:xfrm>
            <a:off x="6400800" y="16765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AutoShape 13"/>
          <p:cNvCxnSpPr>
            <a:stCxn id="568" idx="3"/>
          </p:cNvCxnSpPr>
          <p:nvPr/>
        </p:nvCxnSpPr>
        <p:spPr>
          <a:xfrm>
            <a:off x="7391520" y="2890440"/>
            <a:ext cx="305280" cy="793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AutoShape 14"/>
          <p:cNvCxnSpPr>
            <a:endCxn id="569" idx="6"/>
          </p:cNvCxnSpPr>
          <p:nvPr/>
        </p:nvCxnSpPr>
        <p:spPr>
          <a:xfrm rot="5400000">
            <a:off x="6757920" y="4163040"/>
            <a:ext cx="808560" cy="1067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6" name="Text Box 15"/>
          <p:cNvSpPr/>
          <p:nvPr/>
        </p:nvSpPr>
        <p:spPr>
          <a:xfrm>
            <a:off x="7620120" y="2362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AutoShape 17"/>
          <p:cNvCxnSpPr>
            <a:endCxn id="569" idx="2"/>
          </p:cNvCxnSpPr>
          <p:nvPr/>
        </p:nvCxnSpPr>
        <p:spPr>
          <a:xfrm flipH="1" rot="16200000">
            <a:off x="5048280" y="3976200"/>
            <a:ext cx="838800" cy="14104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Rectangle 19"/>
          <p:cNvSpPr/>
          <p:nvPr/>
        </p:nvSpPr>
        <p:spPr>
          <a:xfrm>
            <a:off x="3759120" y="3657600"/>
            <a:ext cx="198144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0"/>
          <p:cNvSpPr/>
          <p:nvPr/>
        </p:nvSpPr>
        <p:spPr>
          <a:xfrm>
            <a:off x="6705720" y="3657600"/>
            <a:ext cx="1981080" cy="6858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E2CA-9ABE-4D69-B5B3-E1BB42F62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ed if…els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4"/>
          <p:cNvSpPr/>
          <p:nvPr/>
        </p:nvSpPr>
        <p:spPr>
          <a:xfrm>
            <a:off x="1600200" y="1066680"/>
            <a:ext cx="2057400" cy="129564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04920" y="2743200"/>
            <a:ext cx="1523880" cy="53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0"/>
          <p:cNvSpPr/>
          <p:nvPr/>
        </p:nvSpPr>
        <p:spPr>
          <a:xfrm>
            <a:off x="3657600" y="2133720"/>
            <a:ext cx="2057400" cy="129528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2362320" y="3809880"/>
            <a:ext cx="1523880" cy="53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12"/>
          <p:cNvSpPr/>
          <p:nvPr/>
        </p:nvSpPr>
        <p:spPr>
          <a:xfrm>
            <a:off x="5791320" y="3200400"/>
            <a:ext cx="2057400" cy="129528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3"/>
          <p:cNvSpPr/>
          <p:nvPr/>
        </p:nvSpPr>
        <p:spPr>
          <a:xfrm>
            <a:off x="4495680" y="4662360"/>
            <a:ext cx="1524240" cy="53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4"/>
          <p:cNvSpPr/>
          <p:nvPr/>
        </p:nvSpPr>
        <p:spPr>
          <a:xfrm>
            <a:off x="7467480" y="4662360"/>
            <a:ext cx="1524240" cy="5335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5"/>
          <p:cNvSpPr/>
          <p:nvPr/>
        </p:nvSpPr>
        <p:spPr>
          <a:xfrm>
            <a:off x="2905200" y="5562720"/>
            <a:ext cx="457200" cy="4572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6"/>
          <p:cNvSpPr/>
          <p:nvPr/>
        </p:nvSpPr>
        <p:spPr>
          <a:xfrm>
            <a:off x="833400" y="5562720"/>
            <a:ext cx="457200" cy="4572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7"/>
          <p:cNvSpPr/>
          <p:nvPr/>
        </p:nvSpPr>
        <p:spPr>
          <a:xfrm>
            <a:off x="5038560" y="5567400"/>
            <a:ext cx="457200" cy="4572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8"/>
          <p:cNvSpPr/>
          <p:nvPr/>
        </p:nvSpPr>
        <p:spPr>
          <a:xfrm>
            <a:off x="2590920" y="609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9"/>
          <p:cNvSpPr/>
          <p:nvPr/>
        </p:nvSpPr>
        <p:spPr>
          <a:xfrm>
            <a:off x="1062000" y="6019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AutoShape 20"/>
          <p:cNvCxnSpPr>
            <a:stCxn id="584" idx="1"/>
            <a:endCxn id="585" idx="0"/>
          </p:cNvCxnSpPr>
          <p:nvPr/>
        </p:nvCxnSpPr>
        <p:spPr>
          <a:xfrm flipV="1" rot="10800000">
            <a:off x="1065960" y="1713240"/>
            <a:ext cx="534240" cy="1028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AutoShape 21"/>
          <p:cNvCxnSpPr>
            <a:stCxn id="584" idx="3"/>
            <a:endCxn id="586" idx="0"/>
          </p:cNvCxnSpPr>
          <p:nvPr/>
        </p:nvCxnSpPr>
        <p:spPr>
          <a:xfrm>
            <a:off x="3657600" y="1714680"/>
            <a:ext cx="10296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AutoShape 22"/>
          <p:cNvCxnSpPr>
            <a:stCxn id="586" idx="3"/>
            <a:endCxn id="588" idx="0"/>
          </p:cNvCxnSpPr>
          <p:nvPr/>
        </p:nvCxnSpPr>
        <p:spPr>
          <a:xfrm>
            <a:off x="5714640" y="2781360"/>
            <a:ext cx="11055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AutoShape 23"/>
          <p:cNvCxnSpPr>
            <a:stCxn id="588" idx="3"/>
            <a:endCxn id="590" idx="0"/>
          </p:cNvCxnSpPr>
          <p:nvPr/>
        </p:nvCxnSpPr>
        <p:spPr>
          <a:xfrm>
            <a:off x="7848720" y="3848040"/>
            <a:ext cx="381600" cy="815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AutoShape 25"/>
          <p:cNvCxnSpPr>
            <a:stCxn id="588" idx="1"/>
            <a:endCxn id="589" idx="0"/>
          </p:cNvCxnSpPr>
          <p:nvPr/>
        </p:nvCxnSpPr>
        <p:spPr>
          <a:xfrm flipV="1" rot="10800000">
            <a:off x="5257080" y="3847680"/>
            <a:ext cx="534240" cy="815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AutoShape 26"/>
          <p:cNvCxnSpPr>
            <a:stCxn id="586" idx="1"/>
            <a:endCxn id="587" idx="0"/>
          </p:cNvCxnSpPr>
          <p:nvPr/>
        </p:nvCxnSpPr>
        <p:spPr>
          <a:xfrm flipV="1" rot="10800000">
            <a:off x="3123360" y="2779920"/>
            <a:ext cx="534240" cy="1028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AutoShape 28"/>
          <p:cNvCxnSpPr>
            <a:stCxn id="585" idx="2"/>
            <a:endCxn id="592" idx="0"/>
          </p:cNvCxnSpPr>
          <p:nvPr/>
        </p:nvCxnSpPr>
        <p:spPr>
          <a:xfrm rot="5400000">
            <a:off x="-79560" y="4417200"/>
            <a:ext cx="2286720" cy="540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AutoShape 29"/>
          <p:cNvCxnSpPr>
            <a:stCxn id="591" idx="2"/>
            <a:endCxn id="592" idx="6"/>
          </p:cNvCxnSpPr>
          <p:nvPr/>
        </p:nvCxnSpPr>
        <p:spPr>
          <a:xfrm flipH="1" flipV="1">
            <a:off x="1289880" y="5790600"/>
            <a:ext cx="1615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4" name="AutoShape 30"/>
          <p:cNvCxnSpPr>
            <a:stCxn id="593" idx="2"/>
            <a:endCxn id="591" idx="6"/>
          </p:cNvCxnSpPr>
          <p:nvPr/>
        </p:nvCxnSpPr>
        <p:spPr>
          <a:xfrm rot="10800000">
            <a:off x="3361680" y="5790600"/>
            <a:ext cx="1676880" cy="540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5" name="AutoShape 31"/>
          <p:cNvCxnSpPr>
            <a:stCxn id="589" idx="2"/>
            <a:endCxn id="593" idx="0"/>
          </p:cNvCxnSpPr>
          <p:nvPr/>
        </p:nvCxnSpPr>
        <p:spPr>
          <a:xfrm flipH="1" rot="16200000">
            <a:off x="5076720" y="5376600"/>
            <a:ext cx="372240" cy="10080"/>
          </a:xfrm>
          <a:prstGeom prst="bentConnector3">
            <a:avLst>
              <a:gd name="adj1" fmla="val 49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AutoShape 32"/>
          <p:cNvCxnSpPr>
            <a:stCxn id="590" idx="2"/>
            <a:endCxn id="593" idx="6"/>
          </p:cNvCxnSpPr>
          <p:nvPr/>
        </p:nvCxnSpPr>
        <p:spPr>
          <a:xfrm rot="5400000">
            <a:off x="6562080" y="4128840"/>
            <a:ext cx="600840" cy="273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AutoShape 33"/>
          <p:cNvCxnSpPr>
            <a:stCxn id="587" idx="2"/>
            <a:endCxn id="591" idx="0"/>
          </p:cNvCxnSpPr>
          <p:nvPr/>
        </p:nvCxnSpPr>
        <p:spPr>
          <a:xfrm flipH="1" rot="16200000">
            <a:off x="2518200" y="4947840"/>
            <a:ext cx="122004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Text Box 34"/>
          <p:cNvSpPr/>
          <p:nvPr/>
        </p:nvSpPr>
        <p:spPr>
          <a:xfrm>
            <a:off x="5029200" y="34815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5"/>
          <p:cNvSpPr/>
          <p:nvPr/>
        </p:nvSpPr>
        <p:spPr>
          <a:xfrm>
            <a:off x="2971800" y="23623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6"/>
          <p:cNvSpPr/>
          <p:nvPr/>
        </p:nvSpPr>
        <p:spPr>
          <a:xfrm>
            <a:off x="838080" y="1295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7"/>
          <p:cNvSpPr/>
          <p:nvPr/>
        </p:nvSpPr>
        <p:spPr>
          <a:xfrm>
            <a:off x="35812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8"/>
          <p:cNvSpPr/>
          <p:nvPr/>
        </p:nvSpPr>
        <p:spPr>
          <a:xfrm>
            <a:off x="5791320" y="24224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9"/>
          <p:cNvSpPr/>
          <p:nvPr/>
        </p:nvSpPr>
        <p:spPr>
          <a:xfrm>
            <a:off x="7772400" y="3429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E8AF-FBA2-443A-8559-E80A1315E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ooter Placeholder 3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sted if…el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(condition1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 if (condition2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 if (condition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8905-1A63-4C6A-A290-B23DC0313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o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to execute some instructions several time based on som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…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243D-9F5A-4640-8216-52C72562B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le Lo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le (cond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of the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4"/>
          <p:cNvSpPr/>
          <p:nvPr/>
        </p:nvSpPr>
        <p:spPr>
          <a:xfrm>
            <a:off x="5410080" y="4572000"/>
            <a:ext cx="2133720" cy="53352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dy of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5"/>
          <p:cNvSpPr/>
          <p:nvPr/>
        </p:nvSpPr>
        <p:spPr>
          <a:xfrm>
            <a:off x="5715000" y="2971800"/>
            <a:ext cx="1752480" cy="9907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659592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7"/>
          <p:cNvSpPr/>
          <p:nvPr/>
        </p:nvSpPr>
        <p:spPr>
          <a:xfrm>
            <a:off x="662940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8"/>
          <p:cNvSpPr/>
          <p:nvPr/>
        </p:nvSpPr>
        <p:spPr>
          <a:xfrm>
            <a:off x="7467480" y="3471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83818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655308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1"/>
          <p:cNvSpPr/>
          <p:nvPr/>
        </p:nvSpPr>
        <p:spPr>
          <a:xfrm>
            <a:off x="655812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2"/>
          <p:cNvSpPr/>
          <p:nvPr/>
        </p:nvSpPr>
        <p:spPr>
          <a:xfrm>
            <a:off x="662940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3"/>
          <p:cNvSpPr/>
          <p:nvPr/>
        </p:nvSpPr>
        <p:spPr>
          <a:xfrm flipH="1">
            <a:off x="4571640" y="5334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4"/>
          <p:cNvSpPr/>
          <p:nvPr/>
        </p:nvSpPr>
        <p:spPr>
          <a:xfrm flipV="1">
            <a:off x="45720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15"/>
          <p:cNvSpPr/>
          <p:nvPr/>
        </p:nvSpPr>
        <p:spPr>
          <a:xfrm>
            <a:off x="4572000" y="2438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7620120" y="3048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548640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1705-EE8B-4084-AC75-215B228FF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…while Lo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dy of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while (conditio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4"/>
          <p:cNvSpPr/>
          <p:nvPr/>
        </p:nvSpPr>
        <p:spPr>
          <a:xfrm>
            <a:off x="5410080" y="2971800"/>
            <a:ext cx="2133720" cy="53352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dy of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5"/>
          <p:cNvSpPr/>
          <p:nvPr/>
        </p:nvSpPr>
        <p:spPr>
          <a:xfrm>
            <a:off x="5638680" y="4114800"/>
            <a:ext cx="1905120" cy="9907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6"/>
          <p:cNvSpPr/>
          <p:nvPr/>
        </p:nvSpPr>
        <p:spPr>
          <a:xfrm>
            <a:off x="659592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7"/>
          <p:cNvSpPr/>
          <p:nvPr/>
        </p:nvSpPr>
        <p:spPr>
          <a:xfrm>
            <a:off x="66294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1"/>
          <p:cNvSpPr/>
          <p:nvPr/>
        </p:nvSpPr>
        <p:spPr>
          <a:xfrm>
            <a:off x="658656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3"/>
          <p:cNvSpPr/>
          <p:nvPr/>
        </p:nvSpPr>
        <p:spPr>
          <a:xfrm flipH="1">
            <a:off x="4571640" y="460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 flipV="1">
            <a:off x="4572000" y="2437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>
            <a:off x="4572000" y="2438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68580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7"/>
          <p:cNvSpPr/>
          <p:nvPr/>
        </p:nvSpPr>
        <p:spPr>
          <a:xfrm>
            <a:off x="4800600" y="3962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8E15-E4BD-446E-BA38-53AA8190D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lo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(initialization; test condition; Increment/Decr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dy of the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6ADF-EEBF-4773-B807-B460959BC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lo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4"/>
          <p:cNvSpPr/>
          <p:nvPr/>
        </p:nvSpPr>
        <p:spPr>
          <a:xfrm>
            <a:off x="2409840" y="2438280"/>
            <a:ext cx="2133720" cy="53352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5"/>
          <p:cNvSpPr/>
          <p:nvPr/>
        </p:nvSpPr>
        <p:spPr>
          <a:xfrm>
            <a:off x="2638440" y="4672080"/>
            <a:ext cx="1905120" cy="99036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6"/>
          <p:cNvSpPr/>
          <p:nvPr/>
        </p:nvSpPr>
        <p:spPr>
          <a:xfrm>
            <a:off x="3595680" y="2133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"/>
          <p:cNvSpPr/>
          <p:nvPr/>
        </p:nvSpPr>
        <p:spPr>
          <a:xfrm>
            <a:off x="3629160" y="2971800"/>
            <a:ext cx="0" cy="170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3586320" y="566244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52722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0"/>
          <p:cNvSpPr/>
          <p:nvPr/>
        </p:nvSpPr>
        <p:spPr>
          <a:xfrm>
            <a:off x="4890960" y="4290840"/>
            <a:ext cx="243864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dy of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1"/>
          <p:cNvSpPr/>
          <p:nvPr/>
        </p:nvSpPr>
        <p:spPr>
          <a:xfrm>
            <a:off x="4890960" y="3529080"/>
            <a:ext cx="243864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 / Dec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0" name="AutoShape 12"/>
          <p:cNvCxnSpPr>
            <a:stCxn id="663" idx="3"/>
            <a:endCxn id="668" idx="2"/>
          </p:cNvCxnSpPr>
          <p:nvPr/>
        </p:nvCxnSpPr>
        <p:spPr>
          <a:xfrm flipV="1">
            <a:off x="4543560" y="4747320"/>
            <a:ext cx="1567440" cy="420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1" name="AutoShape 13"/>
          <p:cNvCxnSpPr>
            <a:stCxn id="668" idx="0"/>
            <a:endCxn id="669" idx="2"/>
          </p:cNvCxnSpPr>
          <p:nvPr/>
        </p:nvCxnSpPr>
        <p:spPr>
          <a:xfrm flipV="1">
            <a:off x="6109920" y="3985920"/>
            <a:ext cx="108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Line 14"/>
          <p:cNvSpPr/>
          <p:nvPr/>
        </p:nvSpPr>
        <p:spPr>
          <a:xfrm flipH="1">
            <a:off x="3595320" y="3124080"/>
            <a:ext cx="2438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>
            <a:off x="6033960" y="31240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35AA-34A1-4B47-AE87-CD33AA841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sted for lo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(initi; cond; Inc/D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for (initi; cond; Inc/D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{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Body of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302C-C233-4414-8BC3-8F752EDA7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MAKING &amp; BRAN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ls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ed if els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al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to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stateme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ight Brace 4"/>
          <p:cNvSpPr/>
          <p:nvPr/>
        </p:nvSpPr>
        <p:spPr>
          <a:xfrm>
            <a:off x="4419720" y="990720"/>
            <a:ext cx="609480" cy="205740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2057400"/>
              <a:gd name="textAreaBottom" fmla="*/ 20415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"/>
                  <a:pt x="10800" y="533"/>
                </a:cubicBezTo>
                <a:lnTo>
                  <a:pt x="10800" y="10267"/>
                </a:lnTo>
                <a:cubicBezTo>
                  <a:pt x="10800" y="10534"/>
                  <a:pt x="16200" y="10800"/>
                  <a:pt x="21600" y="10800"/>
                </a:cubicBezTo>
                <a:cubicBezTo>
                  <a:pt x="16200" y="10800"/>
                  <a:pt x="10800" y="11067"/>
                  <a:pt x="10800" y="11333"/>
                </a:cubicBezTo>
                <a:lnTo>
                  <a:pt x="10800" y="21067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d2d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ight Brace 5"/>
          <p:cNvSpPr/>
          <p:nvPr/>
        </p:nvSpPr>
        <p:spPr>
          <a:xfrm>
            <a:off x="4572000" y="358128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219320"/>
              <a:gd name="textAreaBottom" fmla="*/ 120960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16200" y="10800"/>
                  <a:pt x="21600" y="10800"/>
                </a:cubicBezTo>
                <a:cubicBezTo>
                  <a:pt x="162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d2d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6"/>
          <p:cNvSpPr/>
          <p:nvPr/>
        </p:nvSpPr>
        <p:spPr>
          <a:xfrm>
            <a:off x="5029200" y="18399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8"/>
          <p:cNvSpPr/>
          <p:nvPr/>
        </p:nvSpPr>
        <p:spPr>
          <a:xfrm>
            <a:off x="4952880" y="38862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ditional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7797-6C2F-45C8-A8D1-9C6A50077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23:30:37Z</dcterms:created>
  <dc:creator>ayaps</dc:creator>
  <dc:description/>
  <dc:language>en-US</dc:language>
  <cp:lastModifiedBy>Windows User</cp:lastModifiedBy>
  <dcterms:modified xsi:type="dcterms:W3CDTF">2022-08-24T05:23:50Z</dcterms:modified>
  <cp:revision>465</cp:revision>
  <dc:subject/>
  <dc:title>Slide 1</dc:title>
</cp:coreProperties>
</file>